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CAEE-1DA8-4995-BF4D-0380C50EC2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FE0E-A060-4482-8BC5-C59B88624D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B965-D057-40B3-A4BC-D75A3ADA5C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0ADF-9C87-4370-896E-222EEB9AF6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758D-CBDD-4631-A29A-0CED8C992D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E019-3E2E-4202-B5B6-48444F1C23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B96D-2EE0-4266-8BBF-875A02BBF0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2E37-5091-4E10-8DB9-E3E9641B49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66C3-16D8-4376-8206-A32B92EC67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9752-4B3E-4D99-A72E-BB5FA21A4E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D548-F895-4E71-9BF7-071A0F72ED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829-AF52-409E-8BBF-A37A6A34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6D7-90B4-4C85-A23C-9D720597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A12-ABCF-4F26-A22E-CBCC8EE4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7969-C8A4-48BA-9ADE-7A8A86A3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96581-6FA5-4D24-9C65-8440592D58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E565E-D859-4551-BDC4-B45DFB519C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94C90-FC14-4938-99F0-4979B8D9BF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F05AA-C132-4AD1-BB01-DC9A178CFB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29AE6-9063-474A-A845-8E5016D701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1264B-540E-440F-8B6E-7722170FC1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7E8C3-36C4-4454-A0BE-DC3779CF78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7598-4C83-4A23-A116-AD542A4F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EAFC6-C480-4ADE-A331-A6ABEF08FF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DCA7C-6E75-400E-A80A-C189B0CA86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676B4-370E-4BD6-8C79-FBA0EC06E8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B4E3B-8171-4283-AFE3-71F2602735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92C08-3FF8-4955-ACB3-5EABA5D0BB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4D67-3529-46B3-A3C9-E1E59003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7D2-9BA5-43BE-9484-3ACE9652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651-2946-46E1-A90A-BD48A23E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52A-28BF-4504-9DCE-52A2D6B9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96CA-FD34-473F-9951-42DE5F16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BD3A-57D7-45DF-BF0A-647F826E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083B-062F-4976-96B5-6D2C92C8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6218-F3BB-42D3-B188-A8A7470F23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"/>
          <p:cNvGrpSpPr/>
          <p:nvPr/>
        </p:nvGrpSpPr>
        <p:grpSpPr>
          <a:xfrm>
            <a:off x="0" y="0"/>
            <a:ext cx="9144000" cy="49320"/>
            <a:chOff x="0" y="0"/>
            <a:chExt cx="9144000" cy="49320"/>
          </a:xfrm>
        </p:grpSpPr>
        <p:grpSp>
          <p:nvGrpSpPr>
            <p:cNvPr id="42" name="Group 43"/>
            <p:cNvGrpSpPr/>
            <p:nvPr/>
          </p:nvGrpSpPr>
          <p:grpSpPr>
            <a:xfrm>
              <a:off x="0" y="0"/>
              <a:ext cx="3913560" cy="49320"/>
              <a:chOff x="0" y="0"/>
              <a:chExt cx="3913560" cy="49320"/>
            </a:xfrm>
          </p:grpSpPr>
          <p:sp>
            <p:nvSpPr>
              <p:cNvPr id="43" name="Rectangle 16"/>
              <p:cNvSpPr/>
              <p:nvPr/>
            </p:nvSpPr>
            <p:spPr>
              <a:xfrm>
                <a:off x="0" y="0"/>
                <a:ext cx="1316160" cy="4932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Rectangle 17"/>
              <p:cNvSpPr/>
              <p:nvPr/>
            </p:nvSpPr>
            <p:spPr>
              <a:xfrm>
                <a:off x="1316160" y="0"/>
                <a:ext cx="1317600" cy="49320"/>
              </a:xfrm>
              <a:prstGeom prst="rect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Rectangle 18"/>
              <p:cNvSpPr/>
              <p:nvPr/>
            </p:nvSpPr>
            <p:spPr>
              <a:xfrm>
                <a:off x="2597400" y="0"/>
                <a:ext cx="1316160" cy="49320"/>
              </a:xfrm>
              <a:prstGeom prst="rect">
                <a:avLst/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" name="Group 44"/>
            <p:cNvGrpSpPr/>
            <p:nvPr/>
          </p:nvGrpSpPr>
          <p:grpSpPr>
            <a:xfrm>
              <a:off x="3913560" y="0"/>
              <a:ext cx="5230440" cy="49320"/>
              <a:chOff x="3913560" y="0"/>
              <a:chExt cx="5230440" cy="49320"/>
            </a:xfrm>
          </p:grpSpPr>
          <p:sp>
            <p:nvSpPr>
              <p:cNvPr id="47" name="Rectangle 12"/>
              <p:cNvSpPr/>
              <p:nvPr/>
            </p:nvSpPr>
            <p:spPr>
              <a:xfrm>
                <a:off x="3913560" y="0"/>
                <a:ext cx="1317600" cy="49320"/>
              </a:xfrm>
              <a:prstGeom prst="rect">
                <a:avLst/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Rectangle 13"/>
              <p:cNvSpPr/>
              <p:nvPr/>
            </p:nvSpPr>
            <p:spPr>
              <a:xfrm>
                <a:off x="5231160" y="0"/>
                <a:ext cx="1315800" cy="49320"/>
              </a:xfrm>
              <a:prstGeom prst="rect">
                <a:avLst/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Rectangle 14"/>
              <p:cNvSpPr/>
              <p:nvPr/>
            </p:nvSpPr>
            <p:spPr>
              <a:xfrm>
                <a:off x="6510600" y="0"/>
                <a:ext cx="1315800" cy="49320"/>
              </a:xfrm>
              <a:prstGeom prst="rect">
                <a:avLst/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Rectangle 15"/>
              <p:cNvSpPr/>
              <p:nvPr/>
            </p:nvSpPr>
            <p:spPr>
              <a:xfrm>
                <a:off x="7826400" y="0"/>
                <a:ext cx="1317600" cy="4932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" name="Right Triangle 19"/>
          <p:cNvSpPr/>
          <p:nvPr/>
        </p:nvSpPr>
        <p:spPr>
          <a:xfrm rot="18900000">
            <a:off x="4425480" y="-66600"/>
            <a:ext cx="271440" cy="203040"/>
          </a:xfrm>
          <a:prstGeom prst="rtTriangle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27000" bIns="27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 Same Side Corner Rectangle 24"/>
          <p:cNvSpPr/>
          <p:nvPr/>
        </p:nvSpPr>
        <p:spPr>
          <a:xfrm flipH="1" rot="16200000">
            <a:off x="8853480" y="4508280"/>
            <a:ext cx="215640" cy="37152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371520"/>
              <a:gd name="textAreaBottom" fmla="*/ 371880 h 371520"/>
            </a:gdLst>
            <a:ahLst/>
            <a:rect l="textAreaLeft" t="textAreaTop" r="textAreaRight" b="textAreaBottom"/>
            <a:pathLst>
              <a:path w="215900" h="371475">
                <a:moveTo>
                  <a:pt x="35984" y="0"/>
                </a:moveTo>
                <a:lnTo>
                  <a:pt x="179916" y="0"/>
                </a:lnTo>
                <a:lnTo>
                  <a:pt x="179916" y="0"/>
                </a:lnTo>
                <a:arcTo wR="35984" hR="35984" stAng="-5400000" swAng="5400000"/>
                <a:lnTo>
                  <a:pt x="215900" y="371475"/>
                </a:lnTo>
                <a:lnTo>
                  <a:pt x="0" y="371475"/>
                </a:lnTo>
                <a:lnTo>
                  <a:pt x="0" y="35984"/>
                </a:lnTo>
                <a:lnTo>
                  <a:pt x="0" y="35984"/>
                </a:lnTo>
                <a:arcTo wR="35984" hR="35984" stAng="10800000" swAng="5400000"/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4"/>
          </p:nvPr>
        </p:nvSpPr>
        <p:spPr>
          <a:xfrm>
            <a:off x="8780040" y="4586040"/>
            <a:ext cx="35244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0262-373F-4DE3-B638-66A112616ADE}" type="slidenum">
              <a:rPr b="1" lang="en-US" sz="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187280" y="105876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 Narrow"/>
              </a:rPr>
              <a:t>Электронный учебно-методический комплекс как компонент информационно-образовательной среды: из опыта работы Мп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484360" y="4219560"/>
            <a:ext cx="66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 Narrow"/>
              </a:rPr>
              <a:t>Павловская Ю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 Narrow"/>
              </a:rPr>
              <a:t>Сайфулина Д.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7451640" y="37958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 Narrow"/>
              </a:rPr>
              <a:t>24.04.2024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Users\Андрей\Desktop\1\Безымянный-1.png"/>
          <p:cNvPicPr/>
          <p:nvPr/>
        </p:nvPicPr>
        <p:blipFill>
          <a:blip r:embed="rId1"/>
          <a:stretch/>
        </p:blipFill>
        <p:spPr>
          <a:xfrm>
            <a:off x="395280" y="123840"/>
            <a:ext cx="8424720" cy="8175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3"/>
          <p:cNvSpPr/>
          <p:nvPr/>
        </p:nvSpPr>
        <p:spPr>
          <a:xfrm>
            <a:off x="971640" y="2682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ЭЛЕКТРОННЫЙ УЧЕБНО-МЕТОДИЧЕСКИЙ КОМПЛЕК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E2CC-8F4A-4EFA-9A55-EA34EA9F6E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Рисунок 5" descr=""/>
          <p:cNvPicPr/>
          <p:nvPr/>
        </p:nvPicPr>
        <p:blipFill>
          <a:blip r:embed="rId2"/>
          <a:srcRect l="7439" t="6765" r="9092" b="9121"/>
          <a:stretch/>
        </p:blipFill>
        <p:spPr>
          <a:xfrm>
            <a:off x="1332000" y="1058760"/>
            <a:ext cx="6221160" cy="3811680"/>
          </a:xfrm>
          <a:prstGeom prst="rect">
            <a:avLst/>
          </a:prstGeom>
          <a:ln w="0">
            <a:noFill/>
          </a:ln>
        </p:spPr>
      </p:pic>
      <p:sp>
        <p:nvSpPr>
          <p:cNvPr id="218" name="Стрелка вправо 6"/>
          <p:cNvSpPr/>
          <p:nvPr/>
        </p:nvSpPr>
        <p:spPr>
          <a:xfrm>
            <a:off x="539640" y="1635120"/>
            <a:ext cx="576360" cy="216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Users\Андрей\Desktop\1\Безымянный-1.png"/>
          <p:cNvPicPr/>
          <p:nvPr/>
        </p:nvPicPr>
        <p:blipFill>
          <a:blip r:embed="rId1"/>
          <a:stretch/>
        </p:blipFill>
        <p:spPr>
          <a:xfrm>
            <a:off x="395280" y="123840"/>
            <a:ext cx="8424720" cy="8175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"/>
          <p:cNvSpPr/>
          <p:nvPr/>
        </p:nvSpPr>
        <p:spPr>
          <a:xfrm>
            <a:off x="971640" y="2682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ЭЛЕКТРОННЫЙ УЧЕБНО-МЕТОДИЧЕСКИЙ КОМПЛЕК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336F-953C-418C-B9C1-A836E62104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Рисунок 6" descr=""/>
          <p:cNvPicPr/>
          <p:nvPr/>
        </p:nvPicPr>
        <p:blipFill>
          <a:blip r:embed="rId2"/>
          <a:srcRect l="1157" t="4120" r="2150" b="4708"/>
          <a:stretch/>
        </p:blipFill>
        <p:spPr>
          <a:xfrm>
            <a:off x="1403280" y="1058760"/>
            <a:ext cx="6675480" cy="3710160"/>
          </a:xfrm>
          <a:prstGeom prst="rect">
            <a:avLst/>
          </a:prstGeom>
          <a:ln w="0">
            <a:noFill/>
          </a:ln>
        </p:spPr>
      </p:pic>
      <p:sp>
        <p:nvSpPr>
          <p:cNvPr id="223" name="Стрелка вправо 7"/>
          <p:cNvSpPr/>
          <p:nvPr/>
        </p:nvSpPr>
        <p:spPr>
          <a:xfrm>
            <a:off x="611280" y="1924200"/>
            <a:ext cx="576000" cy="2156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Users\Андрей\Desktop\1\Безымянный-1.png"/>
          <p:cNvPicPr/>
          <p:nvPr/>
        </p:nvPicPr>
        <p:blipFill>
          <a:blip r:embed="rId1"/>
          <a:stretch/>
        </p:blipFill>
        <p:spPr>
          <a:xfrm>
            <a:off x="395280" y="123840"/>
            <a:ext cx="8424720" cy="8175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971640" y="26820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Narrow"/>
              </a:rPr>
              <a:t>ЭЛЕКТРОННАЯ ИНФОРМАЦИОННАЯ ОБРАЗОВАТЕЛЬНАЯ СРЕДА 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MOOD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7EE1-7A49-4225-A6BF-985851E750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Рисунок 6" descr=""/>
          <p:cNvPicPr/>
          <p:nvPr/>
        </p:nvPicPr>
        <p:blipFill>
          <a:blip r:embed="rId2"/>
          <a:srcRect l="22479" t="12061" r="21655" b="8823"/>
          <a:stretch/>
        </p:blipFill>
        <p:spPr>
          <a:xfrm>
            <a:off x="179280" y="1058760"/>
            <a:ext cx="3795840" cy="30258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8" descr=""/>
          <p:cNvPicPr/>
          <p:nvPr/>
        </p:nvPicPr>
        <p:blipFill>
          <a:blip r:embed="rId3"/>
          <a:srcRect l="22812" t="12649" r="21156" b="6177"/>
          <a:stretch/>
        </p:blipFill>
        <p:spPr>
          <a:xfrm>
            <a:off x="2124000" y="1924200"/>
            <a:ext cx="3743280" cy="29890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9" descr=""/>
          <p:cNvPicPr/>
          <p:nvPr/>
        </p:nvPicPr>
        <p:blipFill>
          <a:blip r:embed="rId4"/>
          <a:srcRect l="22812" t="16470" r="21324" b="9121"/>
          <a:stretch/>
        </p:blipFill>
        <p:spPr>
          <a:xfrm>
            <a:off x="5003640" y="1131840"/>
            <a:ext cx="3867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Users\Андрей\Desktop\1\Безымянный-1.png"/>
          <p:cNvPicPr/>
          <p:nvPr/>
        </p:nvPicPr>
        <p:blipFill>
          <a:blip r:embed="rId1"/>
          <a:stretch/>
        </p:blipFill>
        <p:spPr>
          <a:xfrm>
            <a:off x="395280" y="123840"/>
            <a:ext cx="8424720" cy="817560"/>
          </a:xfrm>
          <a:prstGeom prst="rect">
            <a:avLst/>
          </a:prstGeom>
          <a:ln w="0">
            <a:noFill/>
          </a:ln>
        </p:spPr>
      </p:pic>
      <p:sp>
        <p:nvSpPr>
          <p:cNvPr id="231" name="TextBox 3"/>
          <p:cNvSpPr/>
          <p:nvPr/>
        </p:nvSpPr>
        <p:spPr>
          <a:xfrm>
            <a:off x="971640" y="2682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ПРЕИМУЩЕСТВА  ЭУМ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F80E-26B7-46DE-A97E-22F395B3E9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787680" y="1359720"/>
            <a:ext cx="7092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Arial Narrow"/>
              </a:rPr>
              <a:t>Разнообразие форм представления информаци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Arial Narrow"/>
              </a:rPr>
              <a:t>Дифференциация обуч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Arial Narrow"/>
              </a:rPr>
              <a:t>Интенсификация самостоятельной работы учащих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Arial Narrow"/>
              </a:rPr>
              <a:t>Использование различных форм представления информаци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Arial Narrow"/>
              </a:rPr>
              <a:t>Своевременная и объективная оценка результатов деятельности обучающих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Users\Андрей\Desktop\1\Безымянный-1.png"/>
          <p:cNvPicPr/>
          <p:nvPr/>
        </p:nvPicPr>
        <p:blipFill>
          <a:blip r:embed="rId1"/>
          <a:stretch/>
        </p:blipFill>
        <p:spPr>
          <a:xfrm>
            <a:off x="395280" y="123840"/>
            <a:ext cx="8424720" cy="817560"/>
          </a:xfrm>
          <a:prstGeom prst="rect">
            <a:avLst/>
          </a:prstGeom>
          <a:ln w="0">
            <a:noFill/>
          </a:ln>
        </p:spPr>
      </p:pic>
      <p:sp>
        <p:nvSpPr>
          <p:cNvPr id="235" name="TextBox 3"/>
          <p:cNvSpPr/>
          <p:nvPr/>
        </p:nvSpPr>
        <p:spPr>
          <a:xfrm>
            <a:off x="1042920" y="268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Narrow"/>
                <a:ea typeface="Arial"/>
              </a:rPr>
              <a:t>НЕДОСТАТКИ  ИСПОЛЬЗОВАНИЯ  ЭУМ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AB21-CA57-46F3-8491-E541739FB0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539640" y="1169640"/>
            <a:ext cx="8209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Arial Narrow"/>
              </a:rPr>
              <a:t>Недостаточная компьютерная грамотность некоторых преподавателе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Arial Narrow"/>
              </a:rPr>
              <a:t>Сложности в интеграции ИКТ в поурочную структуру занят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Arial Narrow"/>
              </a:rPr>
              <a:t>Отсутствие доступа к кабинету информатик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Arial Narrow"/>
              </a:rPr>
              <a:t>Недостаточная мотивация к работе у студентов и, как следствие, частое их отвлечение на игры, музыку, проверку характеристик ПК и т.п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Arial Narrow"/>
              </a:rPr>
              <a:t>Недостаточное количество доступной литературы по вопросам применения ЭУМК в учебном процесс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Arial Narrow"/>
              </a:rPr>
              <a:t>Низкий уровень навыков владения ПК у студент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ЭЛЕКТРОННЫЙ УЧЕБНО-МЕТОДИЧЕСКИЙ КОМПЛЕК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Group 46"/>
          <p:cNvGrpSpPr/>
          <p:nvPr/>
        </p:nvGrpSpPr>
        <p:grpSpPr>
          <a:xfrm>
            <a:off x="5292720" y="2859120"/>
            <a:ext cx="3527280" cy="2093760"/>
            <a:chOff x="5292720" y="2859120"/>
            <a:chExt cx="3527280" cy="2093760"/>
          </a:xfrm>
        </p:grpSpPr>
        <p:grpSp>
          <p:nvGrpSpPr>
            <p:cNvPr id="104" name="Group 5"/>
            <p:cNvGrpSpPr/>
            <p:nvPr/>
          </p:nvGrpSpPr>
          <p:grpSpPr>
            <a:xfrm>
              <a:off x="5425200" y="2859120"/>
              <a:ext cx="1034640" cy="317520"/>
              <a:chOff x="5425200" y="2859120"/>
              <a:chExt cx="1034640" cy="317520"/>
            </a:xfrm>
          </p:grpSpPr>
          <p:sp>
            <p:nvSpPr>
              <p:cNvPr id="105" name="Text Placeholder 3"/>
              <p:cNvSpPr/>
              <p:nvPr/>
            </p:nvSpPr>
            <p:spPr>
              <a:xfrm>
                <a:off x="5468040" y="2859120"/>
                <a:ext cx="36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Text Placeholder 3"/>
              <p:cNvSpPr/>
              <p:nvPr/>
            </p:nvSpPr>
            <p:spPr>
              <a:xfrm>
                <a:off x="5425200" y="3046320"/>
                <a:ext cx="103464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" name="Text Placeholder 3"/>
            <p:cNvSpPr/>
            <p:nvPr/>
          </p:nvSpPr>
          <p:spPr>
            <a:xfrm>
              <a:off x="5292720" y="2900160"/>
              <a:ext cx="2376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spcBef>
                  <a:spcPts val="1026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8" name="Group 9"/>
            <p:cNvGrpSpPr/>
            <p:nvPr/>
          </p:nvGrpSpPr>
          <p:grpSpPr>
            <a:xfrm>
              <a:off x="5471280" y="3380400"/>
              <a:ext cx="920880" cy="349560"/>
              <a:chOff x="5471280" y="3380400"/>
              <a:chExt cx="920880" cy="349560"/>
            </a:xfrm>
          </p:grpSpPr>
          <p:sp>
            <p:nvSpPr>
              <p:cNvPr id="109" name="Text Placeholder 3"/>
              <p:cNvSpPr/>
              <p:nvPr/>
            </p:nvSpPr>
            <p:spPr>
              <a:xfrm>
                <a:off x="5471280" y="3380400"/>
                <a:ext cx="36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Text Placeholder 3"/>
              <p:cNvSpPr/>
              <p:nvPr/>
            </p:nvSpPr>
            <p:spPr>
              <a:xfrm>
                <a:off x="5471280" y="3599640"/>
                <a:ext cx="9208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Text Placeholder 3"/>
            <p:cNvSpPr/>
            <p:nvPr/>
          </p:nvSpPr>
          <p:spPr>
            <a:xfrm>
              <a:off x="5319360" y="3274920"/>
              <a:ext cx="36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 algn="ctr">
                <a:spcBef>
                  <a:spcPts val="1026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2" name="Group 13"/>
            <p:cNvGrpSpPr/>
            <p:nvPr/>
          </p:nvGrpSpPr>
          <p:grpSpPr>
            <a:xfrm>
              <a:off x="5466960" y="3928680"/>
              <a:ext cx="992880" cy="338760"/>
              <a:chOff x="5466960" y="3928680"/>
              <a:chExt cx="992880" cy="338760"/>
            </a:xfrm>
          </p:grpSpPr>
          <p:sp>
            <p:nvSpPr>
              <p:cNvPr id="113" name="Text Placeholder 3"/>
              <p:cNvSpPr/>
              <p:nvPr/>
            </p:nvSpPr>
            <p:spPr>
              <a:xfrm>
                <a:off x="5466960" y="3928680"/>
                <a:ext cx="36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Text Placeholder 3"/>
              <p:cNvSpPr/>
              <p:nvPr/>
            </p:nvSpPr>
            <p:spPr>
              <a:xfrm>
                <a:off x="5466960" y="4138560"/>
                <a:ext cx="992880" cy="1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" name="Text Placeholder 3"/>
            <p:cNvSpPr/>
            <p:nvPr/>
          </p:nvSpPr>
          <p:spPr>
            <a:xfrm>
              <a:off x="5316480" y="3983040"/>
              <a:ext cx="36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 algn="ctr">
                <a:spcBef>
                  <a:spcPts val="1026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6" name="Group 17"/>
            <p:cNvGrpSpPr/>
            <p:nvPr/>
          </p:nvGrpSpPr>
          <p:grpSpPr>
            <a:xfrm>
              <a:off x="5467680" y="4495320"/>
              <a:ext cx="992520" cy="329040"/>
              <a:chOff x="5467680" y="4495320"/>
              <a:chExt cx="992520" cy="329040"/>
            </a:xfrm>
          </p:grpSpPr>
          <p:sp>
            <p:nvSpPr>
              <p:cNvPr id="117" name="Text Placeholder 3"/>
              <p:cNvSpPr/>
              <p:nvPr/>
            </p:nvSpPr>
            <p:spPr>
              <a:xfrm>
                <a:off x="5467680" y="4495320"/>
                <a:ext cx="36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Text Placeholder 3"/>
              <p:cNvSpPr/>
              <p:nvPr/>
            </p:nvSpPr>
            <p:spPr>
              <a:xfrm>
                <a:off x="5467680" y="4695480"/>
                <a:ext cx="992520" cy="1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777960"/>
                    <a:tab algn="l" pos="1555920"/>
                    <a:tab algn="l" pos="2333520"/>
                    <a:tab algn="l" pos="3111480"/>
                    <a:tab algn="l" pos="3889440"/>
                    <a:tab algn="l" pos="4667400"/>
                    <a:tab algn="l" pos="5445000"/>
                    <a:tab algn="l" pos="6222960"/>
                    <a:tab algn="l" pos="7000920"/>
                    <a:tab algn="l" pos="7778880"/>
                    <a:tab algn="l" pos="8556480"/>
                    <a:tab algn="l" pos="9334440"/>
                    <a:tab algn="l" pos="10112400"/>
                    <a:tab algn="l" pos="10890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" name="Text Placeholder 3"/>
            <p:cNvSpPr/>
            <p:nvPr/>
          </p:nvSpPr>
          <p:spPr>
            <a:xfrm>
              <a:off x="5316480" y="4362480"/>
              <a:ext cx="36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 algn="ctr">
                <a:spcBef>
                  <a:spcPts val="1026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0" name="Group 22"/>
            <p:cNvGrpSpPr/>
            <p:nvPr/>
          </p:nvGrpSpPr>
          <p:grpSpPr>
            <a:xfrm>
              <a:off x="6724800" y="3103200"/>
              <a:ext cx="2095200" cy="1684440"/>
              <a:chOff x="6724800" y="3103200"/>
              <a:chExt cx="2095200" cy="1684440"/>
            </a:xfrm>
          </p:grpSpPr>
          <p:sp>
            <p:nvSpPr>
              <p:cNvPr id="121" name="Freeform 5"/>
              <p:cNvSpPr/>
              <p:nvPr/>
            </p:nvSpPr>
            <p:spPr>
              <a:xfrm>
                <a:off x="7521480" y="3754080"/>
                <a:ext cx="784080" cy="747720"/>
              </a:xfrm>
              <a:custGeom>
                <a:avLst/>
                <a:gdLst>
                  <a:gd name="textAreaLeft" fmla="*/ 0 w 784080"/>
                  <a:gd name="textAreaRight" fmla="*/ 784440 w 784080"/>
                  <a:gd name="textAreaTop" fmla="*/ 0 h 747720"/>
                  <a:gd name="textAreaBottom" fmla="*/ 748080 h 747720"/>
                </a:gdLst>
                <a:ahLst/>
                <a:rect l="textAreaLeft" t="textAreaTop" r="textAreaRight" b="textAreaBottom"/>
                <a:pathLst>
                  <a:path w="1444" h="815">
                    <a:moveTo>
                      <a:pt x="1444" y="212"/>
                    </a:moveTo>
                    <a:lnTo>
                      <a:pt x="0" y="815"/>
                    </a:lnTo>
                    <a:lnTo>
                      <a:pt x="0" y="595"/>
                    </a:lnTo>
                    <a:lnTo>
                      <a:pt x="1444" y="0"/>
                    </a:lnTo>
                    <a:lnTo>
                      <a:pt x="1444" y="21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Freeform 6"/>
              <p:cNvSpPr/>
              <p:nvPr/>
            </p:nvSpPr>
            <p:spPr>
              <a:xfrm>
                <a:off x="7521480" y="3552480"/>
                <a:ext cx="784080" cy="747720"/>
              </a:xfrm>
              <a:custGeom>
                <a:avLst/>
                <a:gdLst>
                  <a:gd name="textAreaLeft" fmla="*/ 0 w 784080"/>
                  <a:gd name="textAreaRight" fmla="*/ 784440 w 784080"/>
                  <a:gd name="textAreaTop" fmla="*/ 0 h 747720"/>
                  <a:gd name="textAreaBottom" fmla="*/ 748080 h 747720"/>
                </a:gdLst>
                <a:ahLst/>
                <a:rect l="textAreaLeft" t="textAreaTop" r="textAreaRight" b="textAreaBottom"/>
                <a:pathLst>
                  <a:path w="1444" h="815">
                    <a:moveTo>
                      <a:pt x="0" y="621"/>
                    </a:moveTo>
                    <a:lnTo>
                      <a:pt x="1444" y="0"/>
                    </a:lnTo>
                    <a:lnTo>
                      <a:pt x="1444" y="220"/>
                    </a:lnTo>
                    <a:lnTo>
                      <a:pt x="0" y="815"/>
                    </a:lnTo>
                    <a:lnTo>
                      <a:pt x="0" y="621"/>
                    </a:lnTo>
                    <a:close/>
                  </a:path>
                </a:pathLst>
              </a:custGeom>
              <a:solidFill>
                <a:srgbClr val="6325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Freeform 7"/>
              <p:cNvSpPr/>
              <p:nvPr/>
            </p:nvSpPr>
            <p:spPr>
              <a:xfrm>
                <a:off x="7521480" y="4302000"/>
                <a:ext cx="1298520" cy="485640"/>
              </a:xfrm>
              <a:custGeom>
                <a:avLst/>
                <a:gdLst>
                  <a:gd name="textAreaLeft" fmla="*/ 0 w 1298520"/>
                  <a:gd name="textAreaRight" fmla="*/ 1298880 w 129852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1964" h="552">
                    <a:moveTo>
                      <a:pt x="1168" y="0"/>
                    </a:moveTo>
                    <a:cubicBezTo>
                      <a:pt x="1265" y="0"/>
                      <a:pt x="1275" y="2"/>
                      <a:pt x="1300" y="24"/>
                    </a:cubicBezTo>
                    <a:cubicBezTo>
                      <a:pt x="1347" y="65"/>
                      <a:pt x="1496" y="204"/>
                      <a:pt x="1496" y="204"/>
                    </a:cubicBezTo>
                    <a:cubicBezTo>
                      <a:pt x="1964" y="204"/>
                      <a:pt x="1964" y="204"/>
                      <a:pt x="1964" y="204"/>
                    </a:cubicBezTo>
                    <a:cubicBezTo>
                      <a:pt x="1964" y="552"/>
                      <a:pt x="1964" y="552"/>
                      <a:pt x="1964" y="552"/>
                    </a:cubicBezTo>
                    <a:cubicBezTo>
                      <a:pt x="1496" y="552"/>
                      <a:pt x="1496" y="552"/>
                      <a:pt x="1496" y="552"/>
                    </a:cubicBezTo>
                    <a:cubicBezTo>
                      <a:pt x="1496" y="552"/>
                      <a:pt x="1359" y="347"/>
                      <a:pt x="1304" y="283"/>
                    </a:cubicBezTo>
                    <a:cubicBezTo>
                      <a:pt x="1293" y="269"/>
                      <a:pt x="1253" y="228"/>
                      <a:pt x="1196" y="228"/>
                    </a:cubicBezTo>
                    <a:cubicBezTo>
                      <a:pt x="1183" y="228"/>
                      <a:pt x="1160" y="228"/>
                      <a:pt x="1130" y="228"/>
                    </a:cubicBezTo>
                    <a:cubicBezTo>
                      <a:pt x="897" y="228"/>
                      <a:pt x="220" y="228"/>
                      <a:pt x="220" y="228"/>
                    </a:cubicBezTo>
                    <a:cubicBezTo>
                      <a:pt x="190" y="228"/>
                      <a:pt x="12" y="228"/>
                      <a:pt x="0" y="22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04" y="0"/>
                      <a:pt x="885" y="0"/>
                      <a:pt x="1095" y="0"/>
                    </a:cubicBezTo>
                    <a:cubicBezTo>
                      <a:pt x="1128" y="0"/>
                      <a:pt x="1154" y="0"/>
                      <a:pt x="1168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Freeform 8"/>
              <p:cNvSpPr/>
              <p:nvPr/>
            </p:nvSpPr>
            <p:spPr>
              <a:xfrm>
                <a:off x="7521840" y="4122000"/>
                <a:ext cx="1298160" cy="358920"/>
              </a:xfrm>
              <a:custGeom>
                <a:avLst/>
                <a:gdLst>
                  <a:gd name="textAreaLeft" fmla="*/ 0 w 1298160"/>
                  <a:gd name="textAreaRight" fmla="*/ 1298520 w 1298160"/>
                  <a:gd name="textAreaTop" fmla="*/ 0 h 358920"/>
                  <a:gd name="textAreaBottom" fmla="*/ 359280 h 358920"/>
                </a:gdLst>
                <a:ahLst/>
                <a:rect l="textAreaLeft" t="textAreaTop" r="textAreaRight" b="textAreaBottom"/>
                <a:pathLst>
                  <a:path w="1964" h="408">
                    <a:moveTo>
                      <a:pt x="1129" y="0"/>
                    </a:moveTo>
                    <a:cubicBezTo>
                      <a:pt x="1260" y="0"/>
                      <a:pt x="1272" y="9"/>
                      <a:pt x="1272" y="9"/>
                    </a:cubicBezTo>
                    <a:cubicBezTo>
                      <a:pt x="1496" y="92"/>
                      <a:pt x="1496" y="92"/>
                      <a:pt x="1496" y="92"/>
                    </a:cubicBezTo>
                    <a:cubicBezTo>
                      <a:pt x="1964" y="92"/>
                      <a:pt x="1964" y="92"/>
                      <a:pt x="1964" y="92"/>
                    </a:cubicBezTo>
                    <a:cubicBezTo>
                      <a:pt x="1964" y="408"/>
                      <a:pt x="1964" y="408"/>
                      <a:pt x="1964" y="408"/>
                    </a:cubicBezTo>
                    <a:cubicBezTo>
                      <a:pt x="1496" y="408"/>
                      <a:pt x="1496" y="408"/>
                      <a:pt x="1496" y="408"/>
                    </a:cubicBezTo>
                    <a:cubicBezTo>
                      <a:pt x="1307" y="236"/>
                      <a:pt x="1307" y="236"/>
                      <a:pt x="1307" y="236"/>
                    </a:cubicBezTo>
                    <a:cubicBezTo>
                      <a:pt x="1301" y="231"/>
                      <a:pt x="1266" y="202"/>
                      <a:pt x="1168" y="204"/>
                    </a:cubicBezTo>
                    <a:cubicBezTo>
                      <a:pt x="1154" y="204"/>
                      <a:pt x="1128" y="204"/>
                      <a:pt x="1095" y="204"/>
                    </a:cubicBezTo>
                    <a:cubicBezTo>
                      <a:pt x="885" y="204"/>
                      <a:pt x="357" y="204"/>
                      <a:pt x="154" y="204"/>
                    </a:cubicBezTo>
                    <a:cubicBezTo>
                      <a:pt x="104" y="204"/>
                      <a:pt x="73" y="204"/>
                      <a:pt x="73" y="204"/>
                    </a:cubicBezTo>
                    <a:cubicBezTo>
                      <a:pt x="40" y="204"/>
                      <a:pt x="16" y="204"/>
                      <a:pt x="0" y="20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00" y="0"/>
                      <a:pt x="812" y="0"/>
                      <a:pt x="1049" y="0"/>
                    </a:cubicBezTo>
                    <a:cubicBezTo>
                      <a:pt x="1086" y="0"/>
                      <a:pt x="1113" y="0"/>
                      <a:pt x="1129" y="0"/>
                    </a:cubicBez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Oval 9"/>
              <p:cNvSpPr/>
              <p:nvPr/>
            </p:nvSpPr>
            <p:spPr>
              <a:xfrm>
                <a:off x="6724800" y="3103200"/>
                <a:ext cx="763920" cy="1292400"/>
              </a:xfrm>
              <a:prstGeom prst="ellipse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Oval 10"/>
              <p:cNvSpPr/>
              <p:nvPr/>
            </p:nvSpPr>
            <p:spPr>
              <a:xfrm>
                <a:off x="6813360" y="3252240"/>
                <a:ext cx="587160" cy="99216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Freeform 11"/>
              <p:cNvSpPr/>
              <p:nvPr/>
            </p:nvSpPr>
            <p:spPr>
              <a:xfrm>
                <a:off x="7154640" y="3755880"/>
                <a:ext cx="1150920" cy="19368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2212" h="220">
                    <a:moveTo>
                      <a:pt x="73" y="220"/>
                    </a:moveTo>
                    <a:cubicBezTo>
                      <a:pt x="73" y="220"/>
                      <a:pt x="0" y="220"/>
                      <a:pt x="69" y="220"/>
                    </a:cubicBezTo>
                    <a:cubicBezTo>
                      <a:pt x="518" y="220"/>
                      <a:pt x="1834" y="220"/>
                      <a:pt x="2212" y="220"/>
                    </a:cubicBezTo>
                    <a:cubicBezTo>
                      <a:pt x="2212" y="0"/>
                      <a:pt x="2212" y="0"/>
                      <a:pt x="2212" y="0"/>
                    </a:cubicBezTo>
                    <a:cubicBezTo>
                      <a:pt x="2179" y="0"/>
                      <a:pt x="2135" y="0"/>
                      <a:pt x="2072" y="0"/>
                    </a:cubicBezTo>
                    <a:cubicBezTo>
                      <a:pt x="2072" y="0"/>
                      <a:pt x="2014" y="0"/>
                      <a:pt x="1918" y="0"/>
                    </a:cubicBezTo>
                    <a:cubicBezTo>
                      <a:pt x="1534" y="0"/>
                      <a:pt x="73" y="0"/>
                      <a:pt x="73" y="0"/>
                    </a:cubicBez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Oval 12"/>
              <p:cNvSpPr/>
              <p:nvPr/>
            </p:nvSpPr>
            <p:spPr>
              <a:xfrm>
                <a:off x="6935400" y="3458160"/>
                <a:ext cx="343080" cy="581040"/>
              </a:xfrm>
              <a:prstGeom prst="ellipse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Freeform 13"/>
              <p:cNvSpPr/>
              <p:nvPr/>
            </p:nvSpPr>
            <p:spPr>
              <a:xfrm>
                <a:off x="7193520" y="3552120"/>
                <a:ext cx="1112760" cy="203760"/>
              </a:xfrm>
              <a:custGeom>
                <a:avLst/>
                <a:gdLst>
                  <a:gd name="textAreaLeft" fmla="*/ 0 w 1112760"/>
                  <a:gd name="textAreaRight" fmla="*/ 1113120 w 11127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2139" h="232">
                    <a:moveTo>
                      <a:pt x="0" y="232"/>
                    </a:moveTo>
                    <a:cubicBezTo>
                      <a:pt x="0" y="232"/>
                      <a:pt x="1751" y="232"/>
                      <a:pt x="2139" y="232"/>
                    </a:cubicBezTo>
                    <a:cubicBezTo>
                      <a:pt x="2139" y="0"/>
                      <a:pt x="2139" y="0"/>
                      <a:pt x="2139" y="0"/>
                    </a:cubicBezTo>
                    <a:cubicBezTo>
                      <a:pt x="2116" y="0"/>
                      <a:pt x="1777" y="0"/>
                      <a:pt x="172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Oval 12"/>
              <p:cNvSpPr/>
              <p:nvPr/>
            </p:nvSpPr>
            <p:spPr>
              <a:xfrm>
                <a:off x="7024320" y="3611160"/>
                <a:ext cx="163440" cy="276120"/>
              </a:xfrm>
              <a:prstGeom prst="ellipse">
                <a:avLst/>
              </a:prstGeom>
              <a:solidFill>
                <a:srgbClr val="d5d0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" name="Group 33"/>
            <p:cNvGrpSpPr/>
            <p:nvPr/>
          </p:nvGrpSpPr>
          <p:grpSpPr>
            <a:xfrm>
              <a:off x="6441120" y="3856320"/>
              <a:ext cx="685800" cy="581400"/>
              <a:chOff x="6441120" y="3856320"/>
              <a:chExt cx="685800" cy="581400"/>
            </a:xfrm>
          </p:grpSpPr>
          <p:sp>
            <p:nvSpPr>
              <p:cNvPr id="132" name="Freeform 17"/>
              <p:cNvSpPr/>
              <p:nvPr/>
            </p:nvSpPr>
            <p:spPr>
              <a:xfrm rot="19223400">
                <a:off x="6640560" y="4195800"/>
                <a:ext cx="145080" cy="21960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271" h="245">
                    <a:moveTo>
                      <a:pt x="236" y="0"/>
                    </a:moveTo>
                    <a:cubicBezTo>
                      <a:pt x="23" y="81"/>
                      <a:pt x="0" y="245"/>
                      <a:pt x="271" y="128"/>
                    </a:cubicBez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265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 rot="19223400">
                <a:off x="6491880" y="4033080"/>
                <a:ext cx="160920" cy="21816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218160"/>
                  <a:gd name="textAreaBottom" fmla="*/ 218520 h 218160"/>
                </a:gdLst>
                <a:ahLst/>
                <a:rect l="textAreaLeft" t="textAreaTop" r="textAreaRight" b="textAreaBottom"/>
                <a:pathLst>
                  <a:path w="302" h="244">
                    <a:moveTo>
                      <a:pt x="255" y="244"/>
                    </a:moveTo>
                    <a:cubicBezTo>
                      <a:pt x="0" y="106"/>
                      <a:pt x="50" y="0"/>
                      <a:pt x="302" y="121"/>
                    </a:cubicBezTo>
                    <a:lnTo>
                      <a:pt x="255" y="244"/>
                    </a:lnTo>
                    <a:close/>
                  </a:path>
                </a:pathLst>
              </a:custGeom>
              <a:solidFill>
                <a:srgbClr val="71a1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 rot="19223400">
                <a:off x="6980760" y="3911760"/>
                <a:ext cx="154440" cy="28440"/>
              </a:xfrm>
              <a:custGeom>
                <a:avLst/>
                <a:gdLst>
                  <a:gd name="textAreaLeft" fmla="*/ 0 w 154440"/>
                  <a:gd name="textAreaRight" fmla="*/ 154440 w 1544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292" h="30">
                    <a:moveTo>
                      <a:pt x="73" y="2"/>
                    </a:moveTo>
                    <a:cubicBezTo>
                      <a:pt x="33" y="0"/>
                      <a:pt x="1" y="2"/>
                      <a:pt x="0" y="8"/>
                    </a:cubicBezTo>
                    <a:cubicBezTo>
                      <a:pt x="0" y="13"/>
                      <a:pt x="32" y="19"/>
                      <a:pt x="72" y="21"/>
                    </a:cubicBezTo>
                    <a:cubicBezTo>
                      <a:pt x="100" y="22"/>
                      <a:pt x="279" y="30"/>
                      <a:pt x="291" y="27"/>
                    </a:cubicBezTo>
                    <a:cubicBezTo>
                      <a:pt x="292" y="26"/>
                      <a:pt x="292" y="26"/>
                      <a:pt x="292" y="24"/>
                    </a:cubicBezTo>
                    <a:cubicBezTo>
                      <a:pt x="280" y="21"/>
                      <a:pt x="101" y="3"/>
                      <a:pt x="73" y="2"/>
                    </a:cubicBez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Freeform 21"/>
              <p:cNvSpPr/>
              <p:nvPr/>
            </p:nvSpPr>
            <p:spPr>
              <a:xfrm rot="19223400">
                <a:off x="6656760" y="4041000"/>
                <a:ext cx="408240" cy="90000"/>
              </a:xfrm>
              <a:custGeom>
                <a:avLst/>
                <a:gdLst>
                  <a:gd name="textAreaLeft" fmla="*/ 0 w 408240"/>
                  <a:gd name="textAreaRight" fmla="*/ 408600 w 408240"/>
                  <a:gd name="textAreaTop" fmla="*/ 0 h 90000"/>
                  <a:gd name="textAreaBottom" fmla="*/ 90000 h 90000"/>
                </a:gdLst>
                <a:ahLst/>
                <a:rect l="textAreaLeft" t="textAreaTop" r="textAreaRight" b="textAreaBottom"/>
                <a:pathLst>
                  <a:path w="768" h="100">
                    <a:moveTo>
                      <a:pt x="768" y="10"/>
                    </a:moveTo>
                    <a:cubicBezTo>
                      <a:pt x="512" y="0"/>
                      <a:pt x="257" y="0"/>
                      <a:pt x="0" y="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254" y="60"/>
                      <a:pt x="508" y="85"/>
                      <a:pt x="763" y="100"/>
                    </a:cubicBezTo>
                    <a:lnTo>
                      <a:pt x="768" y="10"/>
                    </a:lnTo>
                    <a:close/>
                  </a:path>
                </a:pathLst>
              </a:cu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Freeform 22"/>
              <p:cNvSpPr/>
              <p:nvPr/>
            </p:nvSpPr>
            <p:spPr>
              <a:xfrm rot="19223400">
                <a:off x="6929640" y="3945240"/>
                <a:ext cx="122040" cy="8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85320"/>
                  <a:gd name="textAreaBottom" fmla="*/ 85320 h 85320"/>
                </a:gdLst>
                <a:ahLst/>
                <a:rect l="textAreaLeft" t="textAreaTop" r="textAreaRight" b="textAreaBottom"/>
                <a:pathLst>
                  <a:path w="230" h="95">
                    <a:moveTo>
                      <a:pt x="187" y="5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44" y="14"/>
                      <a:pt x="40" y="66"/>
                      <a:pt x="0" y="82"/>
                    </a:cubicBezTo>
                    <a:cubicBezTo>
                      <a:pt x="182" y="95"/>
                      <a:pt x="182" y="95"/>
                      <a:pt x="182" y="95"/>
                    </a:cubicBezTo>
                    <a:cubicBezTo>
                      <a:pt x="230" y="85"/>
                      <a:pt x="228" y="17"/>
                      <a:pt x="18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Freeform 23"/>
              <p:cNvSpPr/>
              <p:nvPr/>
            </p:nvSpPr>
            <p:spPr>
              <a:xfrm rot="19223400">
                <a:off x="6567120" y="3873960"/>
                <a:ext cx="167400" cy="309960"/>
              </a:xfrm>
              <a:custGeom>
                <a:avLst/>
                <a:gdLst/>
                <a:ahLst/>
                <a:rect l="l" t="t" r="r" b="b"/>
                <a:pathLst>
                  <a:path w="314" h="348">
                    <a:moveTo>
                      <a:pt x="314" y="348"/>
                    </a:moveTo>
                    <a:cubicBezTo>
                      <a:pt x="0" y="334"/>
                      <a:pt x="0" y="334"/>
                      <a:pt x="0" y="334"/>
                    </a:cubicBezTo>
                    <a:cubicBezTo>
                      <a:pt x="78" y="44"/>
                      <a:pt x="280" y="0"/>
                      <a:pt x="314" y="348"/>
                    </a:cubicBezTo>
                    <a:close/>
                  </a:path>
                </a:pathLst>
              </a:custGeom>
              <a:solidFill>
                <a:srgbClr val="265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Freeform 24"/>
              <p:cNvSpPr/>
              <p:nvPr/>
            </p:nvSpPr>
            <p:spPr>
              <a:xfrm rot="19223400">
                <a:off x="6762960" y="4101480"/>
                <a:ext cx="167400" cy="319320"/>
              </a:xfrm>
              <a:custGeom>
                <a:avLst/>
                <a:gdLst>
                  <a:gd name="textAreaLeft" fmla="*/ 0 w 167400"/>
                  <a:gd name="textAreaRight" fmla="*/ 167400 w 16740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314" h="356">
                    <a:moveTo>
                      <a:pt x="314" y="1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49" y="296"/>
                      <a:pt x="247" y="356"/>
                      <a:pt x="314" y="14"/>
                    </a:cubicBezTo>
                    <a:close/>
                  </a:path>
                </a:pathLst>
              </a:custGeom>
              <a:solidFill>
                <a:srgbClr val="71a1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9" name="TextBox 15"/>
            <p:cNvSpPr/>
            <p:nvPr/>
          </p:nvSpPr>
          <p:spPr>
            <a:xfrm>
              <a:off x="7339680" y="3590280"/>
              <a:ext cx="88236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6"/>
            <p:cNvSpPr/>
            <p:nvPr/>
          </p:nvSpPr>
          <p:spPr>
            <a:xfrm>
              <a:off x="7339680" y="3777840"/>
              <a:ext cx="80424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Прямоугольник 46"/>
          <p:cNvSpPr/>
          <p:nvPr/>
        </p:nvSpPr>
        <p:spPr>
          <a:xfrm>
            <a:off x="684360" y="14922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 Narrow"/>
              </a:rPr>
              <a:t>Педагогические инструмен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 Narrow"/>
              </a:rPr>
              <a:t>Функции педаг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 Narrow"/>
              </a:rPr>
              <a:t>Учебный проце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 Narrow"/>
              </a:rPr>
              <a:t>Федеральный государственный образовательный стандар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Стрелка вниз 47"/>
          <p:cNvSpPr/>
          <p:nvPr/>
        </p:nvSpPr>
        <p:spPr>
          <a:xfrm>
            <a:off x="2843280" y="1131840"/>
            <a:ext cx="195120" cy="43200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Стрелка вниз 48"/>
          <p:cNvSpPr/>
          <p:nvPr/>
        </p:nvSpPr>
        <p:spPr>
          <a:xfrm>
            <a:off x="2843280" y="1924200"/>
            <a:ext cx="195120" cy="43164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Стрелка вниз 49"/>
          <p:cNvSpPr/>
          <p:nvPr/>
        </p:nvSpPr>
        <p:spPr>
          <a:xfrm>
            <a:off x="2843280" y="2716200"/>
            <a:ext cx="195120" cy="43164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низ 50"/>
          <p:cNvSpPr/>
          <p:nvPr/>
        </p:nvSpPr>
        <p:spPr>
          <a:xfrm>
            <a:off x="2843280" y="3508200"/>
            <a:ext cx="195120" cy="43200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8"/>
          <p:cNvSpPr/>
          <p:nvPr/>
        </p:nvSpPr>
        <p:spPr>
          <a:xfrm>
            <a:off x="8780400" y="4586400"/>
            <a:ext cx="352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5A92-7AE7-44F3-985D-A4CDFC99B586}" type="slidenum">
              <a:rPr b="1" lang="en-US" sz="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29"/>
          <p:cNvGrpSpPr/>
          <p:nvPr/>
        </p:nvGrpSpPr>
        <p:grpSpPr>
          <a:xfrm>
            <a:off x="1619280" y="1058760"/>
            <a:ext cx="6697800" cy="3457800"/>
            <a:chOff x="1619280" y="1058760"/>
            <a:chExt cx="6697800" cy="3457800"/>
          </a:xfrm>
        </p:grpSpPr>
        <p:sp>
          <p:nvSpPr>
            <p:cNvPr id="148" name="Sev01"/>
            <p:cNvSpPr/>
            <p:nvPr/>
          </p:nvSpPr>
          <p:spPr>
            <a:xfrm>
              <a:off x="4192560" y="1058760"/>
              <a:ext cx="772920" cy="6285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Sev02"/>
            <p:cNvSpPr/>
            <p:nvPr/>
          </p:nvSpPr>
          <p:spPr>
            <a:xfrm>
              <a:off x="4213440" y="1749240"/>
              <a:ext cx="772920" cy="62856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Bent Arrow 13"/>
            <p:cNvSpPr/>
            <p:nvPr/>
          </p:nvSpPr>
          <p:spPr>
            <a:xfrm>
              <a:off x="2776320" y="1288800"/>
              <a:ext cx="1357200" cy="342720"/>
            </a:xfrm>
            <a:custGeom>
              <a:avLst/>
              <a:gdLst/>
              <a:ahLst/>
              <a:rect l="l" t="t" r="r" b="b"/>
              <a:pathLst>
                <a:path w="1268105" h="394212">
                  <a:moveTo>
                    <a:pt x="0" y="394212"/>
                  </a:moveTo>
                  <a:lnTo>
                    <a:pt x="0" y="191124"/>
                  </a:lnTo>
                  <a:lnTo>
                    <a:pt x="0" y="191124"/>
                  </a:lnTo>
                  <a:arcTo wR="138443" hR="138443" stAng="10800000" swAng="5400000"/>
                  <a:lnTo>
                    <a:pt x="1268105" y="52681"/>
                  </a:lnTo>
                  <a:lnTo>
                    <a:pt x="1268105" y="0"/>
                  </a:lnTo>
                  <a:lnTo>
                    <a:pt x="1268105" y="69634"/>
                  </a:lnTo>
                  <a:lnTo>
                    <a:pt x="1268105" y="139267"/>
                  </a:lnTo>
                  <a:lnTo>
                    <a:pt x="1268105" y="86587"/>
                  </a:lnTo>
                  <a:lnTo>
                    <a:pt x="138443" y="86587"/>
                  </a:lnTo>
                  <a:lnTo>
                    <a:pt x="138443" y="86587"/>
                  </a:lnTo>
                  <a:arcTo wR="104537" hR="104537" stAng="-5400000" swAng="-5400000"/>
                  <a:lnTo>
                    <a:pt x="33906" y="394212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Bent Arrow 14"/>
            <p:cNvSpPr/>
            <p:nvPr/>
          </p:nvSpPr>
          <p:spPr>
            <a:xfrm flipH="1">
              <a:off x="5056200" y="1998360"/>
              <a:ext cx="1355760" cy="342720"/>
            </a:xfrm>
            <a:custGeom>
              <a:avLst/>
              <a:gdLst/>
              <a:ahLst/>
              <a:rect l="l" t="t" r="r" b="b"/>
              <a:pathLst>
                <a:path w="1266623" h="394212">
                  <a:moveTo>
                    <a:pt x="0" y="394212"/>
                  </a:moveTo>
                  <a:lnTo>
                    <a:pt x="0" y="191124"/>
                  </a:lnTo>
                  <a:lnTo>
                    <a:pt x="0" y="191124"/>
                  </a:lnTo>
                  <a:arcTo wR="138443" hR="138443" stAng="10800000" swAng="5400000"/>
                  <a:lnTo>
                    <a:pt x="1266623" y="52681"/>
                  </a:lnTo>
                  <a:lnTo>
                    <a:pt x="1266623" y="0"/>
                  </a:lnTo>
                  <a:lnTo>
                    <a:pt x="1266623" y="69634"/>
                  </a:lnTo>
                  <a:lnTo>
                    <a:pt x="1266623" y="139267"/>
                  </a:lnTo>
                  <a:lnTo>
                    <a:pt x="1266623" y="86587"/>
                  </a:lnTo>
                  <a:lnTo>
                    <a:pt x="138443" y="86587"/>
                  </a:lnTo>
                  <a:lnTo>
                    <a:pt x="138443" y="86587"/>
                  </a:lnTo>
                  <a:arcTo wR="104537" hR="104537" stAng="-5400000" swAng="-5400000"/>
                  <a:lnTo>
                    <a:pt x="33906" y="394212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15"/>
            <p:cNvSpPr/>
            <p:nvPr/>
          </p:nvSpPr>
          <p:spPr>
            <a:xfrm>
              <a:off x="1690560" y="1923840"/>
              <a:ext cx="21146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7375e"/>
                  </a:solidFill>
                  <a:latin typeface="Arial Narrow"/>
                </a:rPr>
                <a:t>Федеральный закон № 273-ФЗ «Об образовании в Российской Федерации» от 29 декабря 2012 г. (ред. от 17.02.2023г., с изм. и доп., вступ. в силу с 28.02.2023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Box 16"/>
            <p:cNvSpPr/>
            <p:nvPr/>
          </p:nvSpPr>
          <p:spPr>
            <a:xfrm>
              <a:off x="5292720" y="2427120"/>
              <a:ext cx="299736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7375e"/>
                  </a:solidFill>
                  <a:latin typeface="Arial Narrow"/>
                </a:rPr>
                <a:t>Приказ Министерства образования и науки Российской Федерации № 816 «Об утверждении Порядка применения организациями, осуществляющими образовательную деятельность, электронного обучения, дистанционных образовательных технологий при реализации образовательных программ» от 23 августа 2017 г.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Rounded Rectangle 22"/>
            <p:cNvSpPr/>
            <p:nvPr/>
          </p:nvSpPr>
          <p:spPr>
            <a:xfrm>
              <a:off x="1619280" y="1665000"/>
              <a:ext cx="2376360" cy="2059200"/>
            </a:xfrm>
            <a:prstGeom prst="roundRect">
              <a:avLst>
                <a:gd name="adj" fmla="val 9991"/>
              </a:avLst>
            </a:prstGeom>
            <a:noFill/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Rounded Rectangle 23"/>
            <p:cNvSpPr/>
            <p:nvPr/>
          </p:nvSpPr>
          <p:spPr>
            <a:xfrm>
              <a:off x="5256360" y="2351160"/>
              <a:ext cx="3060720" cy="2165400"/>
            </a:xfrm>
            <a:prstGeom prst="roundRect">
              <a:avLst>
                <a:gd name="adj" fmla="val 9991"/>
              </a:avLst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TextBox 28"/>
          <p:cNvSpPr/>
          <p:nvPr/>
        </p:nvSpPr>
        <p:spPr>
          <a:xfrm>
            <a:off x="1046160" y="357120"/>
            <a:ext cx="60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ОБРАЗОВАНИЕ В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8"/>
          <p:cNvSpPr/>
          <p:nvPr/>
        </p:nvSpPr>
        <p:spPr>
          <a:xfrm>
            <a:off x="8780400" y="4586400"/>
            <a:ext cx="352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333E-BC4C-4645-9CF0-0B8405952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oup 41"/>
          <p:cNvGrpSpPr/>
          <p:nvPr/>
        </p:nvGrpSpPr>
        <p:grpSpPr>
          <a:xfrm>
            <a:off x="755640" y="987480"/>
            <a:ext cx="8064360" cy="3384360"/>
            <a:chOff x="755640" y="987480"/>
            <a:chExt cx="8064360" cy="3384360"/>
          </a:xfrm>
        </p:grpSpPr>
        <p:sp>
          <p:nvSpPr>
            <p:cNvPr id="159" name="Rounded Rectangle 3"/>
            <p:cNvSpPr/>
            <p:nvPr/>
          </p:nvSpPr>
          <p:spPr>
            <a:xfrm>
              <a:off x="755640" y="1366560"/>
              <a:ext cx="3438360" cy="1495440"/>
            </a:xfrm>
            <a:prstGeom prst="roundRect">
              <a:avLst>
                <a:gd name="adj" fmla="val 25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755640" y="987480"/>
              <a:ext cx="3667680" cy="624240"/>
              <a:chOff x="755640" y="987480"/>
              <a:chExt cx="3667680" cy="624240"/>
            </a:xfrm>
          </p:grpSpPr>
          <p:sp>
            <p:nvSpPr>
              <p:cNvPr id="161" name="Rounded Rectangle 6"/>
              <p:cNvSpPr/>
              <p:nvPr/>
            </p:nvSpPr>
            <p:spPr>
              <a:xfrm>
                <a:off x="755640" y="987480"/>
                <a:ext cx="3439080" cy="624240"/>
              </a:xfrm>
              <a:prstGeom prst="roundRect">
                <a:avLst>
                  <a:gd name="adj" fmla="val 16667"/>
                </a:avLst>
              </a:prstGeom>
              <a:solidFill>
                <a:srgbClr val="376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Isosceles Triangle 8"/>
              <p:cNvSpPr/>
              <p:nvPr/>
            </p:nvSpPr>
            <p:spPr>
              <a:xfrm rot="5400000">
                <a:off x="4066560" y="1173960"/>
                <a:ext cx="379800" cy="333360"/>
              </a:xfrm>
              <a:prstGeom prst="triangle">
                <a:avLst>
                  <a:gd name="adj" fmla="val 50000"/>
                </a:avLst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TextBox 10"/>
            <p:cNvSpPr/>
            <p:nvPr/>
          </p:nvSpPr>
          <p:spPr>
            <a:xfrm>
              <a:off x="973080" y="1146600"/>
              <a:ext cx="579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 Narrow"/>
                </a:rPr>
                <a:t>ЭУМК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16"/>
            <p:cNvSpPr/>
            <p:nvPr/>
          </p:nvSpPr>
          <p:spPr>
            <a:xfrm>
              <a:off x="4432320" y="1241280"/>
              <a:ext cx="233280" cy="206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TextBox 17"/>
            <p:cNvSpPr/>
            <p:nvPr/>
          </p:nvSpPr>
          <p:spPr>
            <a:xfrm>
              <a:off x="869760" y="1744560"/>
              <a:ext cx="317952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r>
                <a:rPr b="1" lang="ru-RU" sz="1400" spc="-1" strike="noStrike">
                  <a:solidFill>
                    <a:srgbClr val="17375e"/>
                  </a:solidFill>
                  <a:latin typeface="Arial Narrow"/>
                </a:rPr>
                <a:t>программный продукт учебного назначения, обеспечивающий непрерывность и полноту дидактического цикла процесса обучени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ounded Rectangle 20"/>
            <p:cNvSpPr/>
            <p:nvPr/>
          </p:nvSpPr>
          <p:spPr>
            <a:xfrm flipH="1">
              <a:off x="4859280" y="2066760"/>
              <a:ext cx="3960720" cy="2305080"/>
            </a:xfrm>
            <a:prstGeom prst="roundRect">
              <a:avLst>
                <a:gd name="adj" fmla="val 25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21"/>
            <p:cNvGrpSpPr/>
            <p:nvPr/>
          </p:nvGrpSpPr>
          <p:grpSpPr>
            <a:xfrm>
              <a:off x="4715280" y="1491480"/>
              <a:ext cx="4099320" cy="624240"/>
              <a:chOff x="4715280" y="1491480"/>
              <a:chExt cx="4099320" cy="624240"/>
            </a:xfrm>
          </p:grpSpPr>
          <p:sp>
            <p:nvSpPr>
              <p:cNvPr id="168" name="Rounded Rectangle 22"/>
              <p:cNvSpPr/>
              <p:nvPr/>
            </p:nvSpPr>
            <p:spPr>
              <a:xfrm flipH="1">
                <a:off x="4859280" y="1491480"/>
                <a:ext cx="3439080" cy="624240"/>
              </a:xfrm>
              <a:prstGeom prst="roundRect">
                <a:avLst>
                  <a:gd name="adj" fmla="val 0"/>
                </a:avLst>
              </a:prstGeom>
              <a:solidFill>
                <a:srgbClr val="6325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Rounded Rectangle 23"/>
              <p:cNvSpPr/>
              <p:nvPr/>
            </p:nvSpPr>
            <p:spPr>
              <a:xfrm flipH="1">
                <a:off x="4859640" y="1491480"/>
                <a:ext cx="3954960" cy="624240"/>
              </a:xfrm>
              <a:prstGeom prst="roundRect">
                <a:avLst>
                  <a:gd name="adj" fmla="val 11273"/>
                </a:avLst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Isosceles Triangle 24"/>
              <p:cNvSpPr/>
              <p:nvPr/>
            </p:nvSpPr>
            <p:spPr>
              <a:xfrm flipH="1" rot="16200000">
                <a:off x="4691880" y="1658880"/>
                <a:ext cx="379800" cy="333360"/>
              </a:xfrm>
              <a:prstGeom prst="triangle">
                <a:avLst>
                  <a:gd name="adj" fmla="val 50000"/>
                </a:avLst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1" name="TextBox 26"/>
            <p:cNvSpPr/>
            <p:nvPr/>
          </p:nvSpPr>
          <p:spPr>
            <a:xfrm>
              <a:off x="6599880" y="1650600"/>
              <a:ext cx="1959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 Narrow"/>
                </a:rPr>
                <a:t>Компоненты ЭУМК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Box 28"/>
            <p:cNvSpPr/>
            <p:nvPr/>
          </p:nvSpPr>
          <p:spPr>
            <a:xfrm>
              <a:off x="4932360" y="2139840"/>
              <a:ext cx="3816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spcBef>
                  <a:spcPts val="349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4500360" y="1708200"/>
              <a:ext cx="231480" cy="206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410760"/>
            <a:ext cx="741672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ЭЛЕКТРОННЫЙ УЧЕБНО-МЕТОДИЧЕСКИЙ КОМПЛЕК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40"/>
          <p:cNvSpPr/>
          <p:nvPr/>
        </p:nvSpPr>
        <p:spPr>
          <a:xfrm>
            <a:off x="4932360" y="2139840"/>
            <a:ext cx="381636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17375e"/>
              </a:buClr>
              <a:buFont typeface="Wingdings" charset="2"/>
              <a:buChar char="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 Narrow"/>
              </a:rPr>
              <a:t>теоретические, практические, контролирующие материал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17375e"/>
              </a:buClr>
              <a:buFont typeface="Wingdings" charset="2"/>
              <a:buChar char="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 Narrow"/>
              </a:rPr>
              <a:t>оценки знаний обучающихс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17375e"/>
              </a:buClr>
              <a:buFont typeface="Wingdings" charset="2"/>
              <a:buChar char=""/>
              <a:tabLst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ru-RU" sz="1400" spc="-1" strike="noStrike">
                <a:solidFill>
                  <a:srgbClr val="17375e"/>
                </a:solidFill>
                <a:latin typeface="Arial Narrow"/>
              </a:rPr>
              <a:t>учебно-методическое и информационное обеспе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6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Андрей\Desktop\1\Безымянный-1.png"/>
          <p:cNvPicPr/>
          <p:nvPr/>
        </p:nvPicPr>
        <p:blipFill>
          <a:blip r:embed="rId1"/>
          <a:stretch/>
        </p:blipFill>
        <p:spPr>
          <a:xfrm>
            <a:off x="395280" y="123840"/>
            <a:ext cx="8424720" cy="817560"/>
          </a:xfrm>
          <a:prstGeom prst="rect">
            <a:avLst/>
          </a:prstGeom>
          <a:ln w="0">
            <a:noFill/>
          </a:ln>
        </p:spPr>
      </p:pic>
      <p:sp>
        <p:nvSpPr>
          <p:cNvPr id="177" name="TextBox 3"/>
          <p:cNvSpPr/>
          <p:nvPr/>
        </p:nvSpPr>
        <p:spPr>
          <a:xfrm>
            <a:off x="971640" y="26820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Narrow"/>
              </a:rPr>
              <a:t>ЭЛЕКТРОННАЯ ИНФОРМАЦИОННАЯ ОБРАЗОВАТЕЛЬНАЯ СРЕДА 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MOOD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2689-AFB1-4B64-94EE-5A175DA061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oup 33"/>
          <p:cNvGrpSpPr/>
          <p:nvPr/>
        </p:nvGrpSpPr>
        <p:grpSpPr>
          <a:xfrm>
            <a:off x="2556000" y="1203480"/>
            <a:ext cx="6202080" cy="3024000"/>
            <a:chOff x="2556000" y="1203480"/>
            <a:chExt cx="6202080" cy="3024000"/>
          </a:xfrm>
        </p:grpSpPr>
        <p:sp>
          <p:nvSpPr>
            <p:cNvPr id="180" name="Sev04"/>
            <p:cNvSpPr/>
            <p:nvPr/>
          </p:nvSpPr>
          <p:spPr>
            <a:xfrm>
              <a:off x="2556000" y="2685960"/>
              <a:ext cx="1801800" cy="917280"/>
            </a:xfrm>
            <a:prstGeom prst="ellipse">
              <a:avLst/>
            </a:prstGeom>
            <a:noFill/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Sev02"/>
            <p:cNvSpPr/>
            <p:nvPr/>
          </p:nvSpPr>
          <p:spPr>
            <a:xfrm>
              <a:off x="2595600" y="1203480"/>
              <a:ext cx="1800000" cy="917280"/>
            </a:xfrm>
            <a:prstGeom prst="ellipse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Sev04"/>
            <p:cNvSpPr/>
            <p:nvPr/>
          </p:nvSpPr>
          <p:spPr>
            <a:xfrm>
              <a:off x="2793960" y="2808360"/>
              <a:ext cx="1325520" cy="674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Sev02"/>
            <p:cNvSpPr/>
            <p:nvPr/>
          </p:nvSpPr>
          <p:spPr>
            <a:xfrm>
              <a:off x="2833560" y="1324080"/>
              <a:ext cx="1325520" cy="67464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Bent Arrow 19"/>
            <p:cNvSpPr/>
            <p:nvPr/>
          </p:nvSpPr>
          <p:spPr>
            <a:xfrm flipH="1">
              <a:off x="4411800" y="1587600"/>
              <a:ext cx="2327040" cy="368280"/>
            </a:xfrm>
            <a:custGeom>
              <a:avLst/>
              <a:gdLst/>
              <a:ahLst/>
              <a:rect l="l" t="t" r="r" b="b"/>
              <a:pathLst>
                <a:path w="1267793" h="394060">
                  <a:moveTo>
                    <a:pt x="0" y="394060"/>
                  </a:moveTo>
                  <a:lnTo>
                    <a:pt x="0" y="191050"/>
                  </a:lnTo>
                  <a:lnTo>
                    <a:pt x="0" y="191050"/>
                  </a:lnTo>
                  <a:arcTo wR="138390" hR="138390" stAng="10800000" swAng="5400000"/>
                  <a:lnTo>
                    <a:pt x="1267793" y="52660"/>
                  </a:lnTo>
                  <a:lnTo>
                    <a:pt x="1267793" y="0"/>
                  </a:lnTo>
                  <a:lnTo>
                    <a:pt x="1267793" y="69607"/>
                  </a:lnTo>
                  <a:lnTo>
                    <a:pt x="1267793" y="139214"/>
                  </a:lnTo>
                  <a:lnTo>
                    <a:pt x="1267793" y="86553"/>
                  </a:lnTo>
                  <a:lnTo>
                    <a:pt x="138390" y="86553"/>
                  </a:lnTo>
                  <a:lnTo>
                    <a:pt x="138390" y="86553"/>
                  </a:lnTo>
                  <a:arcTo wR="104497" hR="104497" stAng="-5400000" swAng="-5400000"/>
                  <a:lnTo>
                    <a:pt x="33893" y="394060"/>
                  </a:lnTo>
                  <a:close/>
                </a:path>
              </a:pathLst>
            </a:cu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TextBox 19"/>
            <p:cNvSpPr/>
            <p:nvPr/>
          </p:nvSpPr>
          <p:spPr>
            <a:xfrm>
              <a:off x="4762440" y="2067120"/>
              <a:ext cx="370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632523"/>
                  </a:solidFill>
                  <a:latin typeface="Arial Narrow"/>
                </a:rPr>
                <a:t>Возможности системы </a:t>
              </a:r>
              <a:r>
                <a:rPr b="1" lang="en-US" sz="1600" spc="-1" strike="noStrike">
                  <a:solidFill>
                    <a:srgbClr val="632523"/>
                  </a:solidFill>
                  <a:latin typeface="Arial Narrow"/>
                </a:rPr>
                <a:t>MOODLE</a:t>
              </a:r>
              <a:r>
                <a:rPr b="1" lang="ru-RU" sz="1600" spc="-1" strike="noStrike">
                  <a:solidFill>
                    <a:srgbClr val="632523"/>
                  </a:solidFill>
                  <a:latin typeface="Arial Narrow"/>
                </a:rPr>
                <a:t> для проведения текущего контроля</a:t>
              </a:r>
              <a:r>
                <a:rPr b="1" lang="en-US" sz="1600" spc="-1" strike="noStrike">
                  <a:solidFill>
                    <a:srgbClr val="632523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Box 20"/>
            <p:cNvSpPr/>
            <p:nvPr/>
          </p:nvSpPr>
          <p:spPr>
            <a:xfrm>
              <a:off x="4645080" y="3449880"/>
              <a:ext cx="403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76092"/>
                  </a:solidFill>
                  <a:latin typeface="Arial Narrow"/>
                </a:rPr>
                <a:t>Мастер-класс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76092"/>
                  </a:solidFill>
                  <a:latin typeface="Arial Narrow"/>
                </a:rPr>
                <a:t> </a:t>
              </a:r>
              <a:r>
                <a:rPr b="1" lang="ru-RU" sz="1400" spc="-1" strike="noStrike">
                  <a:solidFill>
                    <a:srgbClr val="376092"/>
                  </a:solidFill>
                  <a:latin typeface="Arial Narrow"/>
                </a:rPr>
                <a:t>«Электронное обучение как средство интенсификации образовательной деятельности»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Bent Arrow 25"/>
            <p:cNvSpPr/>
            <p:nvPr/>
          </p:nvSpPr>
          <p:spPr>
            <a:xfrm flipH="1">
              <a:off x="4371840" y="3051360"/>
              <a:ext cx="2327040" cy="368280"/>
            </a:xfrm>
            <a:custGeom>
              <a:avLst/>
              <a:gdLst/>
              <a:ahLst/>
              <a:rect l="l" t="t" r="r" b="b"/>
              <a:pathLst>
                <a:path w="1267793" h="394060">
                  <a:moveTo>
                    <a:pt x="0" y="394060"/>
                  </a:moveTo>
                  <a:lnTo>
                    <a:pt x="0" y="191050"/>
                  </a:lnTo>
                  <a:lnTo>
                    <a:pt x="0" y="191050"/>
                  </a:lnTo>
                  <a:arcTo wR="138390" hR="138390" stAng="10800000" swAng="5400000"/>
                  <a:lnTo>
                    <a:pt x="1267793" y="52660"/>
                  </a:lnTo>
                  <a:lnTo>
                    <a:pt x="1267793" y="0"/>
                  </a:lnTo>
                  <a:lnTo>
                    <a:pt x="1267793" y="69607"/>
                  </a:lnTo>
                  <a:lnTo>
                    <a:pt x="1267793" y="139214"/>
                  </a:lnTo>
                  <a:lnTo>
                    <a:pt x="1267793" y="86553"/>
                  </a:lnTo>
                  <a:lnTo>
                    <a:pt x="138390" y="86553"/>
                  </a:lnTo>
                  <a:lnTo>
                    <a:pt x="138390" y="86553"/>
                  </a:lnTo>
                  <a:arcTo wR="104497" hR="104497" stAng="-5400000" swAng="-5400000"/>
                  <a:lnTo>
                    <a:pt x="33893" y="394060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ounded Rectangle 27"/>
            <p:cNvSpPr/>
            <p:nvPr/>
          </p:nvSpPr>
          <p:spPr>
            <a:xfrm>
              <a:off x="4640400" y="1943280"/>
              <a:ext cx="4117680" cy="807840"/>
            </a:xfrm>
            <a:prstGeom prst="roundRect">
              <a:avLst>
                <a:gd name="adj" fmla="val 9991"/>
              </a:avLst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ounded Rectangle 29"/>
            <p:cNvSpPr/>
            <p:nvPr/>
          </p:nvSpPr>
          <p:spPr>
            <a:xfrm>
              <a:off x="4600440" y="3419640"/>
              <a:ext cx="4117680" cy="807840"/>
            </a:xfrm>
            <a:prstGeom prst="roundRect">
              <a:avLst>
                <a:gd name="adj" fmla="val 9991"/>
              </a:avLst>
            </a:prstGeom>
            <a:noFill/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Прямоугольник 24"/>
          <p:cNvSpPr/>
          <p:nvPr/>
        </p:nvSpPr>
        <p:spPr>
          <a:xfrm>
            <a:off x="2987640" y="14922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26.01.23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25"/>
          <p:cNvSpPr/>
          <p:nvPr/>
        </p:nvSpPr>
        <p:spPr>
          <a:xfrm>
            <a:off x="2926080" y="29322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29.03.23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17"/>
          <p:cNvSpPr/>
          <p:nvPr/>
        </p:nvSpPr>
        <p:spPr>
          <a:xfrm>
            <a:off x="539640" y="1563840"/>
            <a:ext cx="16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Arial Narrow"/>
              </a:rPr>
              <a:t>M</a:t>
            </a:r>
            <a:r>
              <a:rPr b="0" i="1" lang="ru-RU" sz="2400" spc="-1" strike="noStrike">
                <a:solidFill>
                  <a:srgbClr val="17375e"/>
                </a:solidFill>
                <a:latin typeface="Arial Narrow"/>
              </a:rPr>
              <a:t>odular</a:t>
            </a:r>
            <a:r>
              <a:rPr b="1" i="1" lang="ru-RU" sz="24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Arial Narrow"/>
              </a:rPr>
              <a:t>O</a:t>
            </a:r>
            <a:r>
              <a:rPr b="0" i="1" lang="ru-RU" sz="2400" spc="-1" strike="noStrike">
                <a:solidFill>
                  <a:srgbClr val="17375e"/>
                </a:solidFill>
                <a:latin typeface="Arial Narrow"/>
              </a:rPr>
              <a:t>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Arial Narrow"/>
              </a:rPr>
              <a:t>O</a:t>
            </a:r>
            <a:r>
              <a:rPr b="0" i="1" lang="ru-RU" sz="2400" spc="-1" strike="noStrike">
                <a:solidFill>
                  <a:srgbClr val="17375e"/>
                </a:solidFill>
                <a:latin typeface="Arial Narrow"/>
              </a:rPr>
              <a:t>riented</a:t>
            </a:r>
            <a:r>
              <a:rPr b="1" i="1" lang="ru-RU" sz="24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Arial Narrow"/>
              </a:rPr>
              <a:t>D</a:t>
            </a:r>
            <a:r>
              <a:rPr b="0" i="1" lang="ru-RU" sz="2400" spc="-1" strike="noStrike">
                <a:solidFill>
                  <a:srgbClr val="17375e"/>
                </a:solidFill>
                <a:latin typeface="Arial Narrow"/>
              </a:rPr>
              <a:t>ynamic</a:t>
            </a:r>
            <a:r>
              <a:rPr b="1" i="1" lang="ru-RU" sz="24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Arial Narrow"/>
              </a:rPr>
              <a:t>L</a:t>
            </a:r>
            <a:r>
              <a:rPr b="0" i="1" lang="ru-RU" sz="2400" spc="-1" strike="noStrike">
                <a:solidFill>
                  <a:srgbClr val="17375e"/>
                </a:solidFill>
                <a:latin typeface="Arial Narrow"/>
              </a:rPr>
              <a:t>earning</a:t>
            </a:r>
            <a:r>
              <a:rPr b="1" i="1" lang="ru-RU" sz="24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Arial Narrow"/>
              </a:rPr>
              <a:t>E</a:t>
            </a:r>
            <a:r>
              <a:rPr b="0" i="1" lang="ru-RU" sz="2400" spc="-1" strike="noStrike">
                <a:solidFill>
                  <a:srgbClr val="17375e"/>
                </a:solidFill>
                <a:latin typeface="Arial Narrow"/>
              </a:rPr>
              <a:t>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:\Users\Андрей\Desktop\1\Безымянный-1.png"/>
          <p:cNvPicPr/>
          <p:nvPr/>
        </p:nvPicPr>
        <p:blipFill>
          <a:blip r:embed="rId1"/>
          <a:stretch/>
        </p:blipFill>
        <p:spPr>
          <a:xfrm>
            <a:off x="395280" y="123840"/>
            <a:ext cx="8424720" cy="8175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3"/>
          <p:cNvSpPr/>
          <p:nvPr/>
        </p:nvSpPr>
        <p:spPr>
          <a:xfrm>
            <a:off x="971640" y="26820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Narrow"/>
              </a:rPr>
              <a:t>ЭЛЕКТРОННАЯ ИНФОРМАЦИОННАЯ ОБРАЗОВАТЕЛЬНАЯ СРЕДА 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MOOD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D7A4-335F-41BF-B40E-F25BE9BB63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Рисунок 6" descr=""/>
          <p:cNvPicPr/>
          <p:nvPr/>
        </p:nvPicPr>
        <p:blipFill>
          <a:blip r:embed="rId2"/>
          <a:srcRect l="0" t="9121" r="0" b="6177"/>
          <a:stretch/>
        </p:blipFill>
        <p:spPr>
          <a:xfrm>
            <a:off x="611280" y="987480"/>
            <a:ext cx="8137440" cy="3747960"/>
          </a:xfrm>
          <a:prstGeom prst="rect">
            <a:avLst/>
          </a:prstGeom>
          <a:ln w="0">
            <a:noFill/>
          </a:ln>
        </p:spPr>
      </p:pic>
      <p:sp>
        <p:nvSpPr>
          <p:cNvPr id="197" name="Стрелка вправо 10"/>
          <p:cNvSpPr/>
          <p:nvPr/>
        </p:nvSpPr>
        <p:spPr>
          <a:xfrm>
            <a:off x="6516720" y="1779480"/>
            <a:ext cx="576360" cy="216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Users\Андрей\Desktop\1\Безымянный-1.png"/>
          <p:cNvPicPr/>
          <p:nvPr/>
        </p:nvPicPr>
        <p:blipFill>
          <a:blip r:embed="rId1"/>
          <a:stretch/>
        </p:blipFill>
        <p:spPr>
          <a:xfrm>
            <a:off x="395280" y="123840"/>
            <a:ext cx="8424720" cy="8175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"/>
          <p:cNvSpPr/>
          <p:nvPr/>
        </p:nvSpPr>
        <p:spPr>
          <a:xfrm>
            <a:off x="971640" y="26820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Narrow"/>
              </a:rPr>
              <a:t>ЭЛЕКТРОННАЯ ИНФОРМАЦИОННАЯ ОБРАЗОВАТЕЛЬНАЯ СРЕДА 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MOOD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5054-3444-40F1-9CD8-D6600629DB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Рисунок 7" descr=""/>
          <p:cNvPicPr/>
          <p:nvPr/>
        </p:nvPicPr>
        <p:blipFill>
          <a:blip r:embed="rId2"/>
          <a:srcRect l="0" t="7941" r="20497" b="7353"/>
          <a:stretch/>
        </p:blipFill>
        <p:spPr>
          <a:xfrm>
            <a:off x="1332000" y="987480"/>
            <a:ext cx="6394320" cy="3943440"/>
          </a:xfrm>
          <a:prstGeom prst="rect">
            <a:avLst/>
          </a:prstGeom>
          <a:ln w="0">
            <a:noFill/>
          </a:ln>
        </p:spPr>
      </p:pic>
      <p:sp>
        <p:nvSpPr>
          <p:cNvPr id="202" name="Стрелка вправо 9"/>
          <p:cNvSpPr/>
          <p:nvPr/>
        </p:nvSpPr>
        <p:spPr>
          <a:xfrm>
            <a:off x="2987640" y="3219480"/>
            <a:ext cx="576360" cy="216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Стрелка вправо 11"/>
          <p:cNvSpPr/>
          <p:nvPr/>
        </p:nvSpPr>
        <p:spPr>
          <a:xfrm rot="16200000">
            <a:off x="3886920" y="1527840"/>
            <a:ext cx="576360" cy="21564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Users\Андрей\Desktop\1\Безымянный-1.png"/>
          <p:cNvPicPr/>
          <p:nvPr/>
        </p:nvPicPr>
        <p:blipFill>
          <a:blip r:embed="rId1"/>
          <a:stretch/>
        </p:blipFill>
        <p:spPr>
          <a:xfrm>
            <a:off x="395280" y="123840"/>
            <a:ext cx="8424720" cy="8175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971640" y="2682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ЭЛЕКТРОННЫЙ УЧЕБНО-МЕТОДИЧЕСКИЙ КОМПЛЕК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9369-F971-4A4F-95F2-5500AC91D7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8" descr=""/>
          <p:cNvPicPr/>
          <p:nvPr/>
        </p:nvPicPr>
        <p:blipFill>
          <a:blip r:embed="rId2"/>
          <a:srcRect l="0" t="7059" r="20497" b="7059"/>
          <a:stretch/>
        </p:blipFill>
        <p:spPr>
          <a:xfrm>
            <a:off x="1403280" y="987480"/>
            <a:ext cx="6467400" cy="3962520"/>
          </a:xfrm>
          <a:prstGeom prst="rect">
            <a:avLst/>
          </a:prstGeom>
          <a:ln w="0">
            <a:noFill/>
          </a:ln>
        </p:spPr>
      </p:pic>
      <p:sp>
        <p:nvSpPr>
          <p:cNvPr id="208" name="Стрелка вправо 9"/>
          <p:cNvSpPr/>
          <p:nvPr/>
        </p:nvSpPr>
        <p:spPr>
          <a:xfrm>
            <a:off x="1476360" y="4011480"/>
            <a:ext cx="576360" cy="2160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Users\Андрей\Desktop\1\Безымянный-1.png"/>
          <p:cNvPicPr/>
          <p:nvPr/>
        </p:nvPicPr>
        <p:blipFill>
          <a:blip r:embed="rId1"/>
          <a:stretch/>
        </p:blipFill>
        <p:spPr>
          <a:xfrm>
            <a:off x="395280" y="123840"/>
            <a:ext cx="8424720" cy="8175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3"/>
          <p:cNvSpPr/>
          <p:nvPr/>
        </p:nvSpPr>
        <p:spPr>
          <a:xfrm>
            <a:off x="971640" y="2682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ЭЛЕКТРОННЫЙ УЧЕБНО-МЕТОДИЧЕСКИЙ КОМПЛЕК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CD7B-1E82-4FAA-B29E-80E0F21141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Рисунок 7" descr=""/>
          <p:cNvPicPr/>
          <p:nvPr/>
        </p:nvPicPr>
        <p:blipFill>
          <a:blip r:embed="rId2"/>
          <a:srcRect l="0" t="7941" r="14051" b="5295"/>
          <a:stretch/>
        </p:blipFill>
        <p:spPr>
          <a:xfrm>
            <a:off x="1403280" y="1131840"/>
            <a:ext cx="6292800" cy="3708360"/>
          </a:xfrm>
          <a:prstGeom prst="rect">
            <a:avLst/>
          </a:prstGeom>
          <a:ln w="0">
            <a:noFill/>
          </a:ln>
        </p:spPr>
      </p:pic>
      <p:sp>
        <p:nvSpPr>
          <p:cNvPr id="213" name="Стрелка вправо 10"/>
          <p:cNvSpPr/>
          <p:nvPr/>
        </p:nvSpPr>
        <p:spPr>
          <a:xfrm>
            <a:off x="1835280" y="3076560"/>
            <a:ext cx="576000" cy="21600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4T09:09:35Z</dcterms:created>
  <dc:creator>e.kotukova</dc:creator>
  <dc:description/>
  <dc:language>en-US</dc:language>
  <cp:lastModifiedBy>юлия</cp:lastModifiedBy>
  <dcterms:modified xsi:type="dcterms:W3CDTF">2024-04-23T09:58:08Z</dcterms:modified>
  <cp:revision>63</cp:revision>
  <dc:subject/>
  <dc:title>Слайд 1</dc:title>
</cp:coreProperties>
</file>