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88D4E-D73E-45A9-87BF-AEC238017FB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E751F-48BE-4AD3-BDFD-44D633147C2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449E6-2EAA-4A04-B492-F07785DE84D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0902F-46E6-4C70-8076-2C40C7CDF25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E399D-00E4-4A2F-B854-F3D7964A3CA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9ECA1-6FE6-4929-BBDA-66F83F95DFF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838FD-F2FE-4513-B9D7-3FA25BB6FB6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1DDB2-4A32-43AF-8F9D-E9A17C0421D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CDCC-4829-46D8-B381-712EB768C4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4E671-447A-4027-BDBE-98C1E0A456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5DDB9-10E4-490B-BBD0-489BEA5E06C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215AE-F245-4435-8675-1FFE75B2BE6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6E2BE-AA00-4D03-962C-AF0CCCE16E4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57E69-ABB3-4649-89FF-AB20D66861F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7ACC9-A863-4FB9-9204-2DDDCFFD475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788D3-BFB9-4887-B9DC-EE042809921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B7DDD-E627-4EA4-A8A2-222F41133FC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1D4C6-DACC-4FFE-A5CA-94DC8E3525C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0A0C-E9E9-42DF-8DFD-8E454D06F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3DEE-94B3-4075-B88E-C870882C0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236B-61B9-4F67-8ABE-7AD07CA70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A661-EF78-438C-A886-3F57C1119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E2E69-A156-4E13-BE95-54E288B106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E341-141C-4538-AA7D-7020F216BF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E9CC-07B2-42E5-9B92-FE53AF0BA2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0B4D-B8A0-49B6-8101-2DFD9E1BE7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75C2-F237-4E62-B4E5-4BC1732CF6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D1E0-0BE4-4354-B2AC-531BC73430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1B8E-9A73-4DC4-B2AF-77A04C9A4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1780-DFDA-404C-A769-658D97434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E0F1E-27E3-4578-AB18-11A882A018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DBAB-DAB2-48A7-9942-7141C792D8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A69C2-B985-4CE7-8394-41B1F4B49D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9ACC7-A0AD-432C-ACB0-487699F8E8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836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9000" y="236232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836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9000" y="4307040"/>
            <a:ext cx="247644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C256-D9ED-4E45-A13E-71B900A5C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CE39-92CD-45E9-954D-614B9C7E4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920F-0A62-4B65-86B4-8648190409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4424-F6B0-453B-834C-6255327A5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400" y="833040"/>
            <a:ext cx="777888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4F816-C18D-4145-98E0-745EC7F1B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5B10B-36B2-4D1E-9D4E-AE65E66F1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9000" y="430704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418D-66AE-4B9F-B520-6029272CA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000" y="2362320"/>
            <a:ext cx="375336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7040"/>
            <a:ext cx="7691400" cy="17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9AB9E-2775-45BC-ADC2-4450668951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8320" cy="6856560"/>
            <a:chOff x="0" y="0"/>
            <a:chExt cx="761832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960" cy="6856560"/>
              <a:chOff x="0" y="0"/>
              <a:chExt cx="319896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032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4"/>
              <p:cNvSpPr/>
              <p:nvPr/>
            </p:nvSpPr>
            <p:spPr>
              <a:xfrm>
                <a:off x="457200" y="0"/>
                <a:ext cx="2741760" cy="116532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90080" cy="317520"/>
              <a:chOff x="228240" y="1981080"/>
              <a:chExt cx="739008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480" y="1981080"/>
                <a:ext cx="7008840" cy="3160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204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83880" y="6242040"/>
            <a:ext cx="5857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C822A4-1018-415F-B397-8A63488481F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840" cy="6856560"/>
            <a:chOff x="0" y="0"/>
            <a:chExt cx="586584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800" y="990720"/>
              <a:ext cx="5180040" cy="190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480" cy="317520"/>
            <a:chOff x="3632040" y="4889520"/>
            <a:chExt cx="487548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57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8680" y="4889520"/>
              <a:ext cx="25884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400" y="833040"/>
            <a:ext cx="777888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914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2"/>
          </p:nvPr>
        </p:nvSpPr>
        <p:spPr>
          <a:xfrm>
            <a:off x="75960" y="6248160"/>
            <a:ext cx="585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2521C1-5F4F-4DDC-A98C-A679AAE564F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965160" y="1270080"/>
            <a:ext cx="76723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Организация дистанционного обучения в колледже средствами АСУ «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College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2195640" y="3390840"/>
            <a:ext cx="66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йдерина Полина Сергеев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 иностранного язы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ПОУ «Челябинский педагогический колледж №1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8244000" cy="4392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206280" y="934920"/>
            <a:ext cx="8910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лектронные учебные курс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1290600" y="62064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лектронный учебный кур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748836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1290600" y="62064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лектронный учебный курс преподав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900000" y="2565360"/>
            <a:ext cx="79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овокупност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оретический матери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актический матери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нтрольно-измерительный материал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973080" y="76356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Электронный учебный курс преподава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900000" y="2565360"/>
            <a:ext cx="799308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л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оммуникативный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  (форумы, чаты, видеоконферен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формационный</a:t>
            </a:r>
            <a:br>
              <a:rPr sz="2800"/>
            </a:b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      (книга, лекция, страница, глоссарий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онтрольно-оценочный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(задание, тес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71280" y="0"/>
            <a:ext cx="932184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394920" cy="686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6337440" cy="4378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900000" y="5300640"/>
            <a:ext cx="82440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1440" algn="ctr">
              <a:spcBef>
                <a:spcPts val="1650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66"/>
                </a:solidFill>
                <a:latin typeface="Arial"/>
              </a:rPr>
              <a:t>УСПЕХОВ ВСЕМ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252360" y="979560"/>
            <a:ext cx="88203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Федеральный закон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"Об образовании в Российской федерации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755640" y="2781360"/>
            <a:ext cx="80535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рганизации, осуществляющие образовательную деятельность, вправе применять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лектронное обучение, дистанционные образовательные технологии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при реализации образовательных програм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"/>
          <p:cNvSpPr/>
          <p:nvPr/>
        </p:nvSpPr>
        <p:spPr>
          <a:xfrm>
            <a:off x="755640" y="765000"/>
            <a:ext cx="813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лектронное обуч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 (англ.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E-learnin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кращение от англ. 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Electronic Learning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 — это система обучения при помощи информационных и электронных технолог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26920" y="2781360"/>
            <a:ext cx="83170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истанционное обучени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– это обучение с использованием дистанционных образовательных технологий, в котором преподаватель и студенты разделены во времени и пространст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Это образовательная технология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оторая должна повысить доступность образования без потери его кач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274680" y="716040"/>
            <a:ext cx="877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каз Минобрнауки РФ от 06.05.2005 N 137 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«Об использовании дистанционных образовательных технологий»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26920" y="263700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д  ДОТ понимают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образовательные технологии, реализуемые в основном с применением информационных и телекоммуникационных технологий при опосредованном (на расстоянии) или не полностью опосредованном взаимодействии обучающегося и педагогического работник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900000" y="1125360"/>
            <a:ext cx="84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С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( 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втоматизированная система управ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 - комплекс аппаратных и программных средств, предназначенный для 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в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 процессом (образовательным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900000" y="3500280"/>
            <a:ext cx="82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олледже  с 2016 г.  управление образовательным процессом осуществляется с помощью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СУ «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Colleg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»,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которая разработана и актуализируется с учетом всех требований законодательства РФ в сфере образ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8172360" cy="44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06280" y="1224000"/>
            <a:ext cx="8910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АСУ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ProCollege  </a:t>
            </a:r>
            <a:r>
              <a:rPr b="1" lang="ru-RU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беспечива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818400" cy="409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8209080" cy="41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012680" y="1197000"/>
            <a:ext cx="8131320" cy="43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5T07:49:55Z</dcterms:created>
  <dc:creator>ZipInsert</dc:creator>
  <dc:description/>
  <dc:language>en-US</dc:language>
  <cp:lastModifiedBy>Захарова</cp:lastModifiedBy>
  <dcterms:modified xsi:type="dcterms:W3CDTF">2021-01-18T16:00:54Z</dcterms:modified>
  <cp:revision>11</cp:revision>
  <dc:subject/>
  <dc:title>Организация дистанционного обучения в колледже средствами АСУ «ProCollege@</dc:title>
</cp:coreProperties>
</file>