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744-4BFE-4FD8-8CFE-5ECAE6E4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4BD7-DA6E-4172-B704-07AC82A3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09B-0C0D-412A-B9DD-86076708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C04-F963-4FA8-A8C3-16A70F8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50F-E079-48A6-9B45-537C1E3B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B6F-C2B0-4C43-A588-26C36C77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E880-0CAA-4A58-9FC4-0129AABD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3E1-59D4-44AD-B408-EBC3E2FA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2936-5E3C-4A66-8251-E7E8C694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B022-AC92-49A9-8E53-709A7DCC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823-895F-4DF0-9274-D5370FCB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3FE4-FFDC-4A43-8DE0-F45C3D09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D41-0EAC-4CE0-8206-B681EEA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B0A-8A03-40E3-8AD3-2F0D1D97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2A09-6FF3-440F-BC36-05555A1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8F06-7013-4A4F-9D02-9EA374F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B141-BE01-4509-91A3-00C35585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AC1E-90FA-4FFD-8DEF-EBD445F2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B778-14E4-4F35-9D04-AFB3CC78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8C81-2440-476C-A223-73A7F64B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011C-5B94-417E-8232-E8DF4FE2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E375-6066-43B0-B1D6-4B93837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AF99-F25A-42C0-9BED-B97046E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6570-0684-47EF-B7F2-27ADF4E2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050-EF83-4FDC-8D79-29550E0F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270F-DAE7-4DF0-B5A6-A5A2A63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E020-0BD5-4E07-96A0-9F56DBA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34E5-2605-4D04-AF2F-0102AAE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A3C2-BCFC-45AF-9130-114F784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2C02-BE79-46AC-8910-5320F8A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FC18-8042-405A-8CF2-3F654D3D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BA7D-0A63-4D80-9093-68A2998A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72A7-5ECD-4745-B25F-2083F2FB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B086-7ED7-45D7-BB70-7364815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FBC9-F0A6-4E65-A70D-687801DD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D90-79D2-4680-9CC9-F7C20D7A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2998-A217-4E7B-9033-0BCFDAB4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F808-2DA0-4538-B8F8-FA3AA6A8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F430-81A9-44F4-8DFE-AE8323AE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2FE6-444C-495B-8685-BE8A6B5D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F5EF-8C0B-4ADA-ACE2-DBAF0438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CA99-9DD5-4AF3-8C94-248707A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0A20A-B5A4-4E8B-B0C6-55567C01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10E8-820C-49C1-80D5-18C8430F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4DA9-E541-4B20-A700-DC27FEA0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65C-D681-4084-B029-EE348E17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246-66EF-4C56-8BE1-B796E7E5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6AB-6CE5-4246-A417-1C4F54C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128-50FA-49EB-B3E5-E252A80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E49-245B-48AB-A579-7A4011D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B7D3-00B5-4DC2-9ECF-909675D0DA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641F-A1E7-455E-91F7-F67D39FA2C5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FF6-ACDD-4E2D-88DC-BB14A738EE9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0D31-968B-4446-B35C-FFF3DA5167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-9360" y="2060640"/>
            <a:ext cx="915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реб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ставлению учебно-методического комплекса по дисципли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остранный язы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rcRect l="13436" t="7502" r="14376" b="13751"/>
          <a:stretch/>
        </p:blipFill>
        <p:spPr>
          <a:xfrm>
            <a:off x="6033960" y="4592520"/>
            <a:ext cx="2706840" cy="22147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6"/>
          <p:cNvSpPr/>
          <p:nvPr/>
        </p:nvSpPr>
        <p:spPr>
          <a:xfrm rot="20647200">
            <a:off x="6521400" y="47145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0" descr="https://image3.slideserve.com/5753180/slide5-l.jpg"/>
          <p:cNvPicPr/>
          <p:nvPr/>
        </p:nvPicPr>
        <p:blipFill>
          <a:blip r:embed="rId2"/>
          <a:srcRect l="0" t="17077" r="0" b="0"/>
          <a:stretch/>
        </p:blipFill>
        <p:spPr>
          <a:xfrm>
            <a:off x="47520" y="38160"/>
            <a:ext cx="3251160" cy="2022480"/>
          </a:xfrm>
          <a:prstGeom prst="rect">
            <a:avLst/>
          </a:prstGeom>
          <a:ln w="0">
            <a:noFill/>
          </a:ln>
        </p:spPr>
      </p:pic>
      <p:sp>
        <p:nvSpPr>
          <p:cNvPr id="206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EAB-2C3A-4B75-A5F7-6D0D8FD5EF3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785880" y="564372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цева Мари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57720" y="220680"/>
            <a:ext cx="550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образования и науки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профессионально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ПОУ 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1357200" y="500040"/>
            <a:ext cx="692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7" descr=""/>
          <p:cNvPicPr/>
          <p:nvPr/>
        </p:nvPicPr>
        <p:blipFill>
          <a:blip r:embed="rId1"/>
          <a:stretch/>
        </p:blipFill>
        <p:spPr>
          <a:xfrm>
            <a:off x="6778800" y="5205240"/>
            <a:ext cx="2371680" cy="1298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000160" y="1428840"/>
            <a:ext cx="4857840" cy="1571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857240" y="3571920"/>
            <a:ext cx="5214960" cy="1285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4"/>
          <a:stretch/>
        </p:blipFill>
        <p:spPr>
          <a:xfrm>
            <a:off x="3857760" y="6286680"/>
            <a:ext cx="714240" cy="28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7" descr=""/>
          <p:cNvPicPr/>
          <p:nvPr/>
        </p:nvPicPr>
        <p:blipFill>
          <a:blip r:embed="rId1"/>
          <a:stretch/>
        </p:blipFill>
        <p:spPr>
          <a:xfrm>
            <a:off x="6778800" y="5565600"/>
            <a:ext cx="2371680" cy="1298880"/>
          </a:xfrm>
          <a:prstGeom prst="rect">
            <a:avLst/>
          </a:prstGeom>
          <a:ln w="0">
            <a:noFill/>
          </a:ln>
        </p:spPr>
      </p:pic>
      <p:pic>
        <p:nvPicPr>
          <p:cNvPr id="281" name="Объект 3" descr=""/>
          <p:cNvPicPr/>
          <p:nvPr/>
        </p:nvPicPr>
        <p:blipFill>
          <a:blip r:embed="rId2"/>
          <a:srcRect l="33435" t="28159" r="31678" b="41905"/>
          <a:stretch/>
        </p:blipFill>
        <p:spPr>
          <a:xfrm>
            <a:off x="428760" y="428760"/>
            <a:ext cx="7358040" cy="521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7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2371680" cy="1298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rcRect l="1324" t="2127" r="0" b="3193"/>
          <a:stretch/>
        </p:blipFill>
        <p:spPr>
          <a:xfrm>
            <a:off x="1928880" y="142920"/>
            <a:ext cx="5500800" cy="650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5" descr=""/>
          <p:cNvPicPr/>
          <p:nvPr/>
        </p:nvPicPr>
        <p:blipFill>
          <a:blip r:embed="rId1"/>
          <a:srcRect l="23819" t="33717" r="24192" b="56352"/>
          <a:stretch/>
        </p:blipFill>
        <p:spPr>
          <a:xfrm>
            <a:off x="571680" y="571680"/>
            <a:ext cx="8143560" cy="128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500040" y="2133720"/>
          <a:ext cx="8421840" cy="4209840"/>
        </p:xfrm>
        <a:graphic>
          <a:graphicData uri="http://schemas.openxmlformats.org/drawingml/2006/table">
            <a:tbl>
              <a:tblPr/>
              <a:tblGrid>
                <a:gridCol w="7380360"/>
                <a:gridCol w="1041480"/>
              </a:tblGrid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учебн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образовательной нагру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стоятельная раб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ческое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абораторные рабо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ие работы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жуточная аттестация в форме зачё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Объект 3" descr=""/>
          <p:cNvPicPr/>
          <p:nvPr/>
        </p:nvPicPr>
        <p:blipFill>
          <a:blip r:embed="rId1"/>
          <a:srcRect l="18885" t="26473" r="19299" b="14379"/>
          <a:stretch/>
        </p:blipFill>
        <p:spPr>
          <a:xfrm>
            <a:off x="285840" y="42876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42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" descr=""/>
          <p:cNvPicPr/>
          <p:nvPr/>
        </p:nvPicPr>
        <p:blipFill>
          <a:blip r:embed="rId1"/>
          <a:srcRect l="37249" t="22316" r="34509" b="16004"/>
          <a:stretch/>
        </p:blipFill>
        <p:spPr>
          <a:xfrm>
            <a:off x="2357280" y="142920"/>
            <a:ext cx="5286600" cy="672156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2" descr=""/>
          <p:cNvPicPr/>
          <p:nvPr/>
        </p:nvPicPr>
        <p:blipFill>
          <a:blip r:embed="rId2"/>
          <a:stretch/>
        </p:blipFill>
        <p:spPr>
          <a:xfrm>
            <a:off x="6566040" y="5565600"/>
            <a:ext cx="2369880" cy="129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2" descr=""/>
          <p:cNvPicPr/>
          <p:nvPr/>
        </p:nvPicPr>
        <p:blipFill>
          <a:blip r:embed="rId1"/>
          <a:stretch/>
        </p:blipFill>
        <p:spPr>
          <a:xfrm>
            <a:off x="7066080" y="5638680"/>
            <a:ext cx="2084400" cy="1225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2"/>
          <a:srcRect l="1216" t="0" r="0" b="13190"/>
          <a:stretch/>
        </p:blipFill>
        <p:spPr>
          <a:xfrm>
            <a:off x="1285920" y="214200"/>
            <a:ext cx="5857920" cy="642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640" y="499680"/>
            <a:ext cx="85899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лендарно-тематический план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4CD6-190C-4202-BBD7-1E41DA9AAB9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rcRect l="20778" t="25200" r="20583" b="10001"/>
          <a:stretch/>
        </p:blipFill>
        <p:spPr>
          <a:xfrm>
            <a:off x="214200" y="1714680"/>
            <a:ext cx="871560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640" y="499680"/>
            <a:ext cx="85899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лендарно-тематический план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3333-5C1E-4980-8E45-4679C6D900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1094" t="24378" r="20899" b="11877"/>
          <a:stretch/>
        </p:blipFill>
        <p:spPr>
          <a:xfrm>
            <a:off x="0" y="1571760"/>
            <a:ext cx="9001080" cy="507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 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учебного предмета/учебной дисциплины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61F-493F-40C7-AB6E-A422F4B590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00040" y="1428840"/>
            <a:ext cx="3929040" cy="4714200"/>
            <a:chOff x="500040" y="1428840"/>
            <a:chExt cx="3929040" cy="4714200"/>
          </a:xfrm>
        </p:grpSpPr>
        <p:grpSp>
          <p:nvGrpSpPr>
            <p:cNvPr id="212" name="Group 6"/>
            <p:cNvGrpSpPr/>
            <p:nvPr/>
          </p:nvGrpSpPr>
          <p:grpSpPr>
            <a:xfrm>
              <a:off x="726120" y="3708000"/>
              <a:ext cx="3558960" cy="2435040"/>
              <a:chOff x="726120" y="3708000"/>
              <a:chExt cx="3558960" cy="2435040"/>
            </a:xfrm>
          </p:grpSpPr>
          <p:sp>
            <p:nvSpPr>
              <p:cNvPr id="213" name="Freeform 7"/>
              <p:cNvSpPr/>
              <p:nvPr/>
            </p:nvSpPr>
            <p:spPr>
              <a:xfrm>
                <a:off x="726120" y="4452840"/>
                <a:ext cx="1416240" cy="1690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8"/>
              <p:cNvSpPr/>
              <p:nvPr/>
            </p:nvSpPr>
            <p:spPr>
              <a:xfrm>
                <a:off x="2142360" y="4335120"/>
                <a:ext cx="2142720" cy="1806480"/>
              </a:xfrm>
              <a:prstGeom prst="pie">
                <a:avLst/>
              </a:prstGeom>
              <a:solidFill>
                <a:srgbClr val="e2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"/>
              <p:cNvSpPr/>
              <p:nvPr/>
            </p:nvSpPr>
            <p:spPr>
              <a:xfrm>
                <a:off x="785520" y="3708000"/>
                <a:ext cx="3499560" cy="2048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0"/>
            <p:cNvGrpSpPr/>
            <p:nvPr/>
          </p:nvGrpSpPr>
          <p:grpSpPr>
            <a:xfrm>
              <a:off x="651240" y="3005280"/>
              <a:ext cx="3630600" cy="2491560"/>
              <a:chOff x="651240" y="3005280"/>
              <a:chExt cx="3630600" cy="2491560"/>
            </a:xfrm>
          </p:grpSpPr>
          <p:sp>
            <p:nvSpPr>
              <p:cNvPr id="217" name="Freeform 11"/>
              <p:cNvSpPr/>
              <p:nvPr/>
            </p:nvSpPr>
            <p:spPr>
              <a:xfrm>
                <a:off x="651240" y="3844080"/>
                <a:ext cx="1426320" cy="1652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2"/>
              <p:cNvSpPr/>
              <p:nvPr/>
            </p:nvSpPr>
            <p:spPr>
              <a:xfrm>
                <a:off x="2061360" y="3716640"/>
                <a:ext cx="2220480" cy="1773000"/>
              </a:xfrm>
              <a:prstGeom prst="pie">
                <a:avLst/>
              </a:pr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"/>
              <p:cNvSpPr/>
              <p:nvPr/>
            </p:nvSpPr>
            <p:spPr>
              <a:xfrm>
                <a:off x="651240" y="3005280"/>
                <a:ext cx="3630600" cy="204912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4"/>
            <p:cNvGrpSpPr/>
            <p:nvPr/>
          </p:nvGrpSpPr>
          <p:grpSpPr>
            <a:xfrm>
              <a:off x="574920" y="2375280"/>
              <a:ext cx="3760200" cy="2491560"/>
              <a:chOff x="574920" y="2375280"/>
              <a:chExt cx="3760200" cy="2491560"/>
            </a:xfrm>
          </p:grpSpPr>
          <p:sp>
            <p:nvSpPr>
              <p:cNvPr id="221" name="Freeform 15"/>
              <p:cNvSpPr/>
              <p:nvPr/>
            </p:nvSpPr>
            <p:spPr>
              <a:xfrm>
                <a:off x="574920" y="3214080"/>
                <a:ext cx="1477080" cy="1652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6"/>
              <p:cNvSpPr/>
              <p:nvPr/>
            </p:nvSpPr>
            <p:spPr>
              <a:xfrm>
                <a:off x="2035440" y="3156480"/>
                <a:ext cx="2179080" cy="1702800"/>
              </a:xfrm>
              <a:prstGeom prst="pie">
                <a:avLst/>
              </a:prstGeom>
              <a:solidFill>
                <a:srgbClr val="85d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"/>
              <p:cNvSpPr/>
              <p:nvPr/>
            </p:nvSpPr>
            <p:spPr>
              <a:xfrm>
                <a:off x="574920" y="2375280"/>
                <a:ext cx="3760200" cy="20491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8"/>
            <p:cNvGrpSpPr/>
            <p:nvPr/>
          </p:nvGrpSpPr>
          <p:grpSpPr>
            <a:xfrm>
              <a:off x="500040" y="1428840"/>
              <a:ext cx="3929040" cy="2805480"/>
              <a:chOff x="500040" y="1428840"/>
              <a:chExt cx="3929040" cy="2805480"/>
            </a:xfrm>
          </p:grpSpPr>
          <p:sp>
            <p:nvSpPr>
              <p:cNvPr id="225" name="Freeform 19"/>
              <p:cNvSpPr/>
              <p:nvPr/>
            </p:nvSpPr>
            <p:spPr>
              <a:xfrm>
                <a:off x="500040" y="2581560"/>
                <a:ext cx="1528560" cy="1652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0"/>
              <p:cNvSpPr/>
              <p:nvPr/>
            </p:nvSpPr>
            <p:spPr>
              <a:xfrm>
                <a:off x="2000160" y="2214000"/>
                <a:ext cx="2428920" cy="1930680"/>
              </a:xfrm>
              <a:prstGeom prst="pie">
                <a:avLst/>
              </a:prstGeom>
              <a:solidFill>
                <a:srgbClr val="009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1"/>
              <p:cNvSpPr/>
              <p:nvPr/>
            </p:nvSpPr>
            <p:spPr>
              <a:xfrm>
                <a:off x="500040" y="1428840"/>
                <a:ext cx="3891240" cy="236304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AutoShape 22"/>
          <p:cNvSpPr/>
          <p:nvPr/>
        </p:nvSpPr>
        <p:spPr>
          <a:xfrm>
            <a:off x="5110200" y="1643040"/>
            <a:ext cx="3336840" cy="571680"/>
          </a:xfrm>
          <a:solidFill>
            <a:srgbClr val="009dd9"/>
          </a:solidFill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чая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5"/>
          <p:cNvSpPr/>
          <p:nvPr/>
        </p:nvSpPr>
        <p:spPr>
          <a:xfrm>
            <a:off x="5110200" y="2590920"/>
            <a:ext cx="3386160" cy="593640"/>
          </a:xfrm>
          <a:solidFill>
            <a:srgbClr val="0f6fc6"/>
          </a:solidFill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лендарно-тематически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1"/>
          <p:cNvSpPr/>
          <p:nvPr/>
        </p:nvSpPr>
        <p:spPr>
          <a:xfrm>
            <a:off x="285840" y="1000080"/>
            <a:ext cx="4143240" cy="2362320"/>
          </a:xfrm>
          <a:prstGeom prst="pie">
            <a:avLst/>
          </a:prstGeom>
          <a:gradFill rotWithShape="0">
            <a:gsLst>
              <a:gs pos="0">
                <a:srgbClr val="d6d6d6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 rot="1569600">
            <a:off x="1387440" y="14245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о-методически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8"/>
          <p:cNvSpPr/>
          <p:nvPr/>
        </p:nvSpPr>
        <p:spPr>
          <a:xfrm>
            <a:off x="2000160" y="1857240"/>
            <a:ext cx="2357640" cy="1754280"/>
          </a:xfrm>
          <a:prstGeom prst="pie">
            <a:avLst/>
          </a:prstGeom>
          <a:solidFill>
            <a:srgbClr val="e2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5143680" y="3408480"/>
            <a:ext cx="3384360" cy="642960"/>
          </a:xfrm>
          <a:solidFill>
            <a:srgbClr val="e2d700">
              <a:alpha val="50000"/>
            </a:srgbClr>
          </a:solidFill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ические указания к 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0"/>
          <p:cNvSpPr/>
          <p:nvPr/>
        </p:nvSpPr>
        <p:spPr>
          <a:xfrm>
            <a:off x="2143080" y="4500720"/>
            <a:ext cx="2143080" cy="175572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1"/>
          <p:cNvSpPr/>
          <p:nvPr/>
        </p:nvSpPr>
        <p:spPr>
          <a:xfrm>
            <a:off x="714240" y="4714920"/>
            <a:ext cx="1427400" cy="150336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9"/>
          <p:cNvSpPr/>
          <p:nvPr/>
        </p:nvSpPr>
        <p:spPr>
          <a:xfrm>
            <a:off x="642960" y="5143680"/>
            <a:ext cx="1528920" cy="150336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2214720" y="4929120"/>
            <a:ext cx="2071440" cy="1690920"/>
          </a:xfrm>
          <a:prstGeom prst="pie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14200" y="1928880"/>
            <a:ext cx="1782720" cy="171756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5214960" y="4214880"/>
            <a:ext cx="3429000" cy="857160"/>
          </a:xfrm>
          <a:solidFill>
            <a:srgbClr val="85dfd0"/>
          </a:solidFill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кт контрольно-измеритель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5"/>
          <p:cNvSpPr/>
          <p:nvPr/>
        </p:nvSpPr>
        <p:spPr>
          <a:xfrm>
            <a:off x="5214960" y="5429160"/>
            <a:ext cx="3386160" cy="593640"/>
          </a:xfrm>
          <a:solidFill>
            <a:srgbClr val="0f6fc6"/>
          </a:solidFill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ы к зачетам, экзаменам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40" y="499680"/>
            <a:ext cx="85899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лендарно-тематический план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FAC0-3BDF-42AA-8E76-B732DC70E08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50920" y="20718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ответствие тематики рабочей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ды учеб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авильность  указания цикловой коми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ы промежуточной аттес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писи преподавателя, председателя ПЦ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"/>
          <p:cNvPicPr/>
          <p:nvPr/>
        </p:nvPicPr>
        <p:blipFill>
          <a:blip r:embed="rId1"/>
          <a:stretch/>
        </p:blipFill>
        <p:spPr>
          <a:xfrm>
            <a:off x="6278400" y="5278320"/>
            <a:ext cx="2657520" cy="15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3336-259E-4208-BFFD-E94303CB03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76320" y="42876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 ПО ОРГАНИЗАЦИИ ВНЕАУДИТОРНОЙ САМОСТОЯТЕ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СТУДЕН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642960" y="2000160"/>
            <a:ext cx="8177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ответствие мак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личество часов, выделенных на самостоятельную работу, должно соответствовать учебному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чень видов самостоятельной работы, соответствие програм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се ли  виды самостоятельной работы представлены в рекомендациях по организации различных форм внеаудиторной самостояте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личие критериев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личие рец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4" descr=""/>
          <p:cNvPicPr/>
          <p:nvPr/>
        </p:nvPicPr>
        <p:blipFill>
          <a:blip r:embed="rId1"/>
          <a:stretch/>
        </p:blipFill>
        <p:spPr>
          <a:xfrm>
            <a:off x="6278400" y="5278320"/>
            <a:ext cx="2657520" cy="15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8ED7-2E1F-4B22-9601-F7D45F7A818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"/>
          <p:cNvSpPr/>
          <p:nvPr/>
        </p:nvSpPr>
        <p:spPr>
          <a:xfrm>
            <a:off x="1506600" y="785880"/>
            <a:ext cx="60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Ы  К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642960" y="1536840"/>
            <a:ext cx="7961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ответствие мак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вильность указания  цикловой коми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ответствие  ФГОС метапредметных, предметных компетенций (ОК, П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ответствие учебному плану форм промежуточной аттес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личие эталонов и критериев оце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дписи и печати внутреннего и внешнего реценз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Рисунок 4" descr=""/>
          <p:cNvPicPr/>
          <p:nvPr/>
        </p:nvPicPr>
        <p:blipFill>
          <a:blip r:embed="rId1"/>
          <a:stretch/>
        </p:blipFill>
        <p:spPr>
          <a:xfrm>
            <a:off x="6278400" y="5278320"/>
            <a:ext cx="2657520" cy="15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358-BDF6-4D82-BBAB-A2696339B24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E6E2-D660-44E5-8FD0-F0340F44A1A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64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-9360" y="20606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ребования к составлению учебно-методического комплек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исципли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остранный язы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13436" t="7502" r="14376" b="13751"/>
          <a:stretch/>
        </p:blipFill>
        <p:spPr>
          <a:xfrm>
            <a:off x="6033960" y="4592520"/>
            <a:ext cx="2706840" cy="221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6"/>
          <p:cNvSpPr/>
          <p:nvPr/>
        </p:nvSpPr>
        <p:spPr>
          <a:xfrm rot="20647200">
            <a:off x="6521400" y="47145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0" descr="https://image3.slideserve.com/5753180/slide5-l.jpg"/>
          <p:cNvPicPr/>
          <p:nvPr/>
        </p:nvPicPr>
        <p:blipFill>
          <a:blip r:embed="rId2"/>
          <a:srcRect l="0" t="17077" r="0" b="0"/>
          <a:stretch/>
        </p:blipFill>
        <p:spPr>
          <a:xfrm>
            <a:off x="47520" y="38160"/>
            <a:ext cx="3251160" cy="2022480"/>
          </a:xfrm>
          <a:prstGeom prst="rect">
            <a:avLst/>
          </a:prstGeom>
          <a:ln w="0">
            <a:noFill/>
          </a:ln>
        </p:spPr>
      </p:pic>
      <p:sp>
        <p:nvSpPr>
          <p:cNvPr id="326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9CF-A82B-4520-9389-62069CF9FD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785880" y="564372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цева Мари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357720" y="220680"/>
            <a:ext cx="550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образования и науки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профессионально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ПОУ 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ая программ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868-AFCF-4A86-ADAA-BC9AA1CEC92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14200" y="1428840"/>
            <a:ext cx="86788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ответствие рабочей программы учебному план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яснительная   запис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«Контроль и оценка  результатов освоения УД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руктура и содержание рабочей програм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ды промежуточной аттес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авильность оформления информационного обеспечения 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формление в соответствии с маке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личие рецензии, экспертизы, экспертного заклю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аличие листа изменений (при необходим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личие МПА на 2021/2022 учебный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62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-509" t="42701" r="0" b="2147"/>
          <a:stretch/>
        </p:blipFill>
        <p:spPr>
          <a:xfrm>
            <a:off x="857160" y="928800"/>
            <a:ext cx="7286760" cy="57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62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rcRect l="0" t="0" r="0" b="16868"/>
          <a:stretch/>
        </p:blipFill>
        <p:spPr>
          <a:xfrm>
            <a:off x="71280" y="785880"/>
            <a:ext cx="8643960" cy="585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62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72280" cy="585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5" descr=""/>
          <p:cNvPicPr/>
          <p:nvPr/>
        </p:nvPicPr>
        <p:blipFill>
          <a:blip r:embed="rId1"/>
          <a:srcRect l="37328" t="21980" r="34903" b="14946"/>
          <a:stretch/>
        </p:blipFill>
        <p:spPr>
          <a:xfrm>
            <a:off x="1285920" y="142920"/>
            <a:ext cx="5000760" cy="67150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"/>
          <p:cNvPicPr/>
          <p:nvPr/>
        </p:nvPicPr>
        <p:blipFill>
          <a:blip r:embed="rId2"/>
          <a:stretch/>
        </p:blipFill>
        <p:spPr>
          <a:xfrm>
            <a:off x="6534000" y="5327640"/>
            <a:ext cx="2616480" cy="153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rcRect l="1080" t="0" r="0" b="22493"/>
          <a:stretch/>
        </p:blipFill>
        <p:spPr>
          <a:xfrm>
            <a:off x="428760" y="214200"/>
            <a:ext cx="7358040" cy="5429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750096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1357200" y="500040"/>
            <a:ext cx="692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рабочей программы учебной дисципли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857160" y="2500200"/>
            <a:ext cx="7858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программы в образовательной организации должны быть оформлены в едином сти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макет, шрифт 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s New Rom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интервал, таблица 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s New Rom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нтерва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"/>
          <p:cNvPicPr/>
          <p:nvPr/>
        </p:nvPicPr>
        <p:blipFill>
          <a:blip r:embed="rId1"/>
          <a:stretch/>
        </p:blipFill>
        <p:spPr>
          <a:xfrm>
            <a:off x="6066000" y="4992840"/>
            <a:ext cx="3084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49:46Z</dcterms:created>
  <dc:creator>Natasha</dc:creator>
  <dc:description/>
  <dc:language>en-US</dc:language>
  <cp:lastModifiedBy>user</cp:lastModifiedBy>
  <dcterms:modified xsi:type="dcterms:W3CDTF">2021-10-12T18:07:22Z</dcterms:modified>
  <cp:revision>154</cp:revision>
  <dc:subject/>
  <dc:title>Педагогічні ігрові технології</dc:title>
</cp:coreProperties>
</file>