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335088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3"/>
          <p:cNvSpPr/>
          <p:nvPr/>
        </p:nvSpPr>
        <p:spPr>
          <a:xfrm>
            <a:off x="76251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39fd0"/>
                </a:solidFill>
                <a:latin typeface="Arial"/>
              </a:rPr>
              <a:t>Page </a:t>
            </a:r>
            <a:fld id="{99F2B1A2-0233-47A7-A96D-5E55E0E3554A}" type="slidenum">
              <a:rPr b="1" lang="fr-FR" sz="1800" spc="-1" strike="noStrike">
                <a:solidFill>
                  <a:srgbClr val="039fd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"/>
          <p:cNvSpPr/>
          <p:nvPr/>
        </p:nvSpPr>
        <p:spPr>
          <a:xfrm>
            <a:off x="179280" y="768240"/>
            <a:ext cx="8820360" cy="38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161645"/>
                </a:solidFill>
                <a:latin typeface="Arial"/>
              </a:rPr>
              <a:t>Возможности использования в дистанционном образовании электронных форм обучения со студентами педагогического колледжа: технология смешанного обу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2"/>
          <p:cNvSpPr/>
          <p:nvPr/>
        </p:nvSpPr>
        <p:spPr>
          <a:xfrm>
            <a:off x="623880" y="4589640"/>
            <a:ext cx="788688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e1e20"/>
                </a:solidFill>
                <a:latin typeface="Arial"/>
              </a:rPr>
              <a:t>Чашина А.Ф.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e1e20"/>
                </a:solidFill>
                <a:latin typeface="Arial"/>
              </a:rPr>
              <a:t>преподаватель английского язы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e1e20"/>
                </a:solidFill>
                <a:latin typeface="Arial"/>
              </a:rPr>
              <a:t>Челябинский педагогический колледж №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7829640" y="6305400"/>
            <a:ext cx="1314360" cy="5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826920" y="1989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39fd0"/>
                </a:solidFill>
                <a:latin typeface="Verdana"/>
              </a:rPr>
              <a:t>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65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2" descr=""/>
          <p:cNvPicPr/>
          <p:nvPr/>
        </p:nvPicPr>
        <p:blipFill>
          <a:blip r:embed="rId1"/>
          <a:stretch/>
        </p:blipFill>
        <p:spPr>
          <a:xfrm>
            <a:off x="0" y="-243000"/>
            <a:ext cx="9396360" cy="741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0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2" descr="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-11160" y="0"/>
            <a:ext cx="9172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324000" y="1916280"/>
            <a:ext cx="871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истанционное обучени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– это тип обучения, основанный на образовательном взаимодействии удаленных друг от друга педагогов и обучающихся, реализующийся с помощью телекоммуникационных технологий и ресурсов сети Интер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2" descr=""/>
          <p:cNvPicPr/>
          <p:nvPr/>
        </p:nvPicPr>
        <p:blipFill>
          <a:blip r:embed="rId1"/>
          <a:stretch/>
        </p:blipFill>
        <p:spPr>
          <a:xfrm>
            <a:off x="158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2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628560" y="357120"/>
            <a:ext cx="788688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468360" y="1844640"/>
            <a:ext cx="851544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250920" y="1916280"/>
            <a:ext cx="864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" name="Прямая со стрелкой 3"/>
          <p:cNvCxnSpPr/>
          <p:nvPr/>
        </p:nvCxnSpPr>
        <p:spPr>
          <a:xfrm flipH="1">
            <a:off x="2268000" y="2095200"/>
            <a:ext cx="936000" cy="118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" name="TextBox 4"/>
          <p:cNvSpPr/>
          <p:nvPr/>
        </p:nvSpPr>
        <p:spPr>
          <a:xfrm>
            <a:off x="1278000" y="346536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e to face / off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" name="Прямая со стрелкой 6"/>
          <p:cNvCxnSpPr/>
          <p:nvPr/>
        </p:nvCxnSpPr>
        <p:spPr>
          <a:xfrm>
            <a:off x="6181200" y="2096640"/>
            <a:ext cx="862920" cy="123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TextBox 8"/>
          <p:cNvSpPr/>
          <p:nvPr/>
        </p:nvSpPr>
        <p:spPr>
          <a:xfrm>
            <a:off x="6210360" y="3525840"/>
            <a:ext cx="20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Creating Emotional Engagement in Online Learning | EDUCAUSE"/>
          <p:cNvPicPr/>
          <p:nvPr/>
        </p:nvPicPr>
        <p:blipFill>
          <a:blip r:embed="rId1"/>
          <a:stretch/>
        </p:blipFill>
        <p:spPr>
          <a:xfrm>
            <a:off x="5400720" y="4233960"/>
            <a:ext cx="3343320" cy="1361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Blended Learning: How your school can combine online and offline classes"/>
          <p:cNvPicPr/>
          <p:nvPr/>
        </p:nvPicPr>
        <p:blipFill>
          <a:blip r:embed="rId2"/>
          <a:stretch/>
        </p:blipFill>
        <p:spPr>
          <a:xfrm>
            <a:off x="3638520" y="2131920"/>
            <a:ext cx="1866960" cy="127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Lack of face-to-face learning and networking could damage careers -  Personnel Today"/>
          <p:cNvPicPr/>
          <p:nvPr/>
        </p:nvPicPr>
        <p:blipFill>
          <a:blip r:embed="rId3"/>
          <a:stretch/>
        </p:blipFill>
        <p:spPr>
          <a:xfrm>
            <a:off x="438120" y="4114800"/>
            <a:ext cx="285768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3"/>
          <p:cNvSpPr/>
          <p:nvPr/>
        </p:nvSpPr>
        <p:spPr>
          <a:xfrm>
            <a:off x="2604960" y="1490760"/>
            <a:ext cx="393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Blended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250920" y="1859040"/>
            <a:ext cx="864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Европейские образовательные моде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дистанционное обучение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distance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обучение в классе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face to face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обучение через Интернет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online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628560" y="357120"/>
            <a:ext cx="788688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результате применения данной модели обучения формируются способно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-но планировать и организовывать дея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имать решения, делать сознательный выб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в информационном пространст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6"/>
          <p:cNvSpPr/>
          <p:nvPr/>
        </p:nvSpPr>
        <p:spPr>
          <a:xfrm>
            <a:off x="684360" y="1700280"/>
            <a:ext cx="8280360" cy="44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результате применения данной модели обучения формируются навы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тическ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и результатов деятельности с использованием различных информационных технолог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да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4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-64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альмира чашина</cp:lastModifiedBy>
  <dcterms:modified xsi:type="dcterms:W3CDTF">2021-10-12T18:02:49Z</dcterms:modified>
  <cp:revision>86</cp:revision>
  <dc:subject/>
  <dc:title>Human Computers Network</dc:title>
</cp:coreProperties>
</file>