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90FD-980B-457B-8B53-8C4392A199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то теоретическая проблема, то конкретное её решение, если практическая - конкретный результат, готовый к использованию на уроке, в школе, во внеклассной работе,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, чтобы этот результат можно было увидеть, осмыслить, применить в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6E03-76CE-4C86-86A4-5D93DB3C42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42C8-6A36-460B-8576-AE46C9B555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8D90-2E0A-45DF-9954-92C5EBEAB5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3069-27DB-428D-B7D0-E0E950A41C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зде снять знаки препин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78ED-26AF-468F-9CA8-67049A6141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То, что готовят дети для наглядной демонстрации своих результатов, продукт работы над проектом, определяет форму проведения презентации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3EC7-21A2-4D36-ABA6-5F45A46C69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489-F942-422D-9CF1-27730E41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770-820B-428E-906A-A9ED0CB0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B51-369B-4F3F-A5BB-9ABAC837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920-45CF-41DB-BA3D-A3CA1373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06BF-1A67-4865-906A-D1D4DDA1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B0BC-08B9-41D2-88A5-BBD247AB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91FE-CB5F-494B-80CA-54C672C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4571-A636-4FA6-8714-25B89AD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7FA9-0821-4CDF-AFD2-F2F643CB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17D0-5266-4A9F-B7F8-302907DC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B0FE-832B-45EC-B58E-AB20E5B7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A75-B6EE-4042-ADDB-AAD24A74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DB75-18D1-4BA3-92C3-D0B54BE4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2AFE-F124-45A6-B0BE-3C72B9D0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AA2D-B29E-4221-A729-1582B18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F3CC-61C1-4F78-AB53-651BC282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1518-ECA3-469C-9AC6-DDEF2D95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BBB-F9C5-4975-B060-E791E4C5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B17-C751-4C13-A4DE-25510670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6A8-EE11-4693-BB86-8CFD739B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9DB-EA0F-4945-8CDB-B1C6EFA9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54A-3E12-4135-8CB4-F334181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538-2FFC-4AD0-B5C5-99E2E39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D95-10CB-425F-A0A2-45246974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083C-A803-4408-AEA3-38870A18BA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02E8-47B7-4493-9D7F-1C476CFC3349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1487520" y="743040"/>
            <a:ext cx="6334200" cy="162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72040" y="4667400"/>
            <a:ext cx="382104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андыкова Д.Ф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филологических наук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иностранных языков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«Челябинский механико-технологический технику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2"/>
          <a:stretch/>
        </p:blipFill>
        <p:spPr>
          <a:xfrm>
            <a:off x="324000" y="4367160"/>
            <a:ext cx="1439640" cy="2136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1071720" y="571680"/>
            <a:ext cx="692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0000"/>
                </a:solidFill>
                <a:latin typeface="Times New Roman"/>
                <a:ea typeface="Times New Roman"/>
              </a:rPr>
              <a:t>Использование проектной методики в процессе изучения иностранного я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2532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езультат проекта (продукт)</a:t>
            </a:r>
            <a:br>
              <a:rPr sz="3600"/>
            </a:b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ы выполненных проектов должны быть "осязаемыми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ом проекта может бы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ильм;  журнал;  справочник; словарь; серия иллюстраций; стенгазета;  буклет; наглядные пособия; плакат; викторина; план; реклама;  выставка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1487520" y="743040"/>
            <a:ext cx="6334200" cy="1628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072040" y="4667400"/>
            <a:ext cx="382104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андыкова Д.Ф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филологических наук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иностранных языков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«Челябинский механико-технологический технику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2"/>
          <a:stretch/>
        </p:blipFill>
        <p:spPr>
          <a:xfrm>
            <a:off x="324000" y="4367160"/>
            <a:ext cx="1439640" cy="21369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1071720" y="571680"/>
            <a:ext cx="692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0000"/>
                </a:solidFill>
                <a:latin typeface="Times New Roman"/>
                <a:ea typeface="Times New Roman"/>
              </a:rPr>
              <a:t>Использование проектной методики в процессе изучения иностранного я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22952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то такое проект?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1125000"/>
            <a:ext cx="8678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к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совокупность желаемых результатов, идей, гипотез для формирования творческого теоретического продук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овокупность приемов, действий и процедур в определенной последовательности для решения поставленной задачи, лично значимой для обучающегося и оформленного в виде ожидаемого конечного продукта (Полат Е.С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лассификация учебных проектов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59280" y="2924280"/>
            <a:ext cx="3025440" cy="12967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0000"/>
                </a:solidFill>
                <a:latin typeface="Times New Roman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 flipH="1" flipV="1">
            <a:off x="3276720" y="2421000"/>
            <a:ext cx="1295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 flipH="1" flipV="1">
            <a:off x="3492360" y="20606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 flipV="1">
            <a:off x="4500720" y="17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 flipV="1">
            <a:off x="4500720" y="249228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6084720" y="2781360"/>
            <a:ext cx="1151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 flipV="1">
            <a:off x="6084720" y="328464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6156360" y="357336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084720" y="357336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 flipH="1" flipV="1">
            <a:off x="2411280" y="2781000"/>
            <a:ext cx="648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6"/>
          <p:cNvSpPr/>
          <p:nvPr/>
        </p:nvSpPr>
        <p:spPr>
          <a:xfrm flipH="1" flipV="1">
            <a:off x="2340000" y="3357720"/>
            <a:ext cx="719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H="1">
            <a:off x="2195280" y="3500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2410920" y="3573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4572000" y="422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0"/>
          <p:cNvSpPr/>
          <p:nvPr/>
        </p:nvSpPr>
        <p:spPr>
          <a:xfrm flipH="1">
            <a:off x="3203280" y="422100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4572000" y="4221000"/>
            <a:ext cx="151272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2"/>
          <p:cNvSpPr/>
          <p:nvPr/>
        </p:nvSpPr>
        <p:spPr>
          <a:xfrm flipH="1">
            <a:off x="3203280" y="4221000"/>
            <a:ext cx="136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4572000" y="4221000"/>
            <a:ext cx="165564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133200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2411280" y="1700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упп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3419640" y="1268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новозрас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5867280" y="1989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ународ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7054920" y="2349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ме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7020000" y="2924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жпредме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7020000" y="3500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предме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6877080" y="40053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3851280" y="558972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лад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6084720" y="5084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р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6227640" y="4653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2050920" y="5300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900000" y="486900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539640" y="4149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спектив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468360" y="3573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395280" y="299736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есро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684360" y="242100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1196640"/>
            <a:ext cx="7013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сновные требования к организации проекта: 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значимой в исследовательском , творчес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 проблемы и задачи исследования, требующей интегрированного знания, исследовательского поиска для ее ре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, теоретическая, познаватель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мость предполагаемых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Самостоятельная значимость (индивидуальная, парная, групповая деятельность обучающихс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ие содержательной части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ние поэтапных результа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0000"/>
              </a:lnSpc>
              <a:spcBef>
                <a:spcPts val="201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189000"/>
            <a:ext cx="7229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сновные требования к организации проекта: 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97000" indent="-29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Использование исследовательских метод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ющих определенную последова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1116000" y="2349360"/>
            <a:ext cx="7704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роблемы и вытекающих из не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методов иссле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пособов оформление конечных результа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, систематизация и анализ полученных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, оформление результатов, их презентац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, выдвижение новых проблем иссле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01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ы работы над проектом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052640"/>
          <a:ext cx="8675640" cy="4792680"/>
        </p:xfrm>
        <a:graphic>
          <a:graphicData uri="http://schemas.openxmlformats.org/drawingml/2006/table">
            <a:tbl>
              <a:tblPr/>
              <a:tblGrid>
                <a:gridCol w="2663640"/>
                <a:gridCol w="60120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Определение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проблемного вопроса, анализ проблемы, постановка цели проекта (определение продукта), выбор названия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е (планир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возможных вариантов исследования, выбор способов получения информации, определение формы продукта и требований к продукту, составление плана работы, распределение фун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Реализация п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планированных технологический операций, внесение необходимых измен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6633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защита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 выполнения проекта, оценка качества выполнения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Портфоли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ка, в которой собраны все рабочие материалы проекта, черновики, планы, отчеты, результаты исследований и анализа, схемы, рисунки, фотографии, электронный вариант учебного проекта для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оисково-исследовательский этап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, изучение, исследование и обработка необходимой информации о выполняемом объек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ние нескольких возможных вариантов выполнения проекта и отбор наиболее оптимального из ни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21420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2121"/>
                </a:solidFill>
                <a:latin typeface="Times New Roman"/>
                <a:ea typeface="Times New Roman"/>
              </a:rPr>
              <a:t>Проблемные вопросы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120680"/>
          <a:ext cx="8675640" cy="5324400"/>
        </p:xfrm>
        <a:graphic>
          <a:graphicData uri="http://schemas.openxmlformats.org/drawingml/2006/table">
            <a:tbl>
              <a:tblPr/>
              <a:tblGrid>
                <a:gridCol w="2663640"/>
                <a:gridCol w="4535640"/>
                <a:gridCol w="1476360"/>
              </a:tblGrid>
              <a:tr h="98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бл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йте попробуем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чем хотели бы 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му хотели  бы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ектирование (планир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будем  выполнять …  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интересного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ем вместе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? Кто? Где? Когд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иск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знаем…? Что еще  необходимо узнать?   Какие необходимы? Какие приемы работы необходимо использовать? Как можно распределить работу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одвигается? В чем трудность? Помощь требуется ? Фиксация дея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6633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му я научился?, Чего я достиг?, Что сделал?, Что у меня раньше не получалось, а теперь получается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AutoShape 82"/>
          <p:cNvSpPr/>
          <p:nvPr/>
        </p:nvSpPr>
        <p:spPr>
          <a:xfrm>
            <a:off x="8244000" y="1125360"/>
            <a:ext cx="503280" cy="790920"/>
          </a:xfrm>
          <a:prstGeom prst="triangle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83"/>
          <p:cNvSpPr/>
          <p:nvPr/>
        </p:nvSpPr>
        <p:spPr>
          <a:xfrm>
            <a:off x="8317080" y="5516640"/>
            <a:ext cx="502920" cy="792000"/>
          </a:xfrm>
          <a:prstGeom prst="triangle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84"/>
          <p:cNvSpPr/>
          <p:nvPr/>
        </p:nvSpPr>
        <p:spPr>
          <a:xfrm>
            <a:off x="8317080" y="3716280"/>
            <a:ext cx="502920" cy="792360"/>
          </a:xfrm>
          <a:prstGeom prst="triangle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86"/>
          <p:cNvSpPr/>
          <p:nvPr/>
        </p:nvSpPr>
        <p:spPr>
          <a:xfrm>
            <a:off x="8244000" y="4724280"/>
            <a:ext cx="503280" cy="649440"/>
          </a:xfrm>
          <a:prstGeom prst="triangle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87"/>
          <p:cNvSpPr/>
          <p:nvPr/>
        </p:nvSpPr>
        <p:spPr>
          <a:xfrm>
            <a:off x="7596360" y="1413000"/>
            <a:ext cx="407880" cy="43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8"/>
          <p:cNvSpPr/>
          <p:nvPr/>
        </p:nvSpPr>
        <p:spPr>
          <a:xfrm>
            <a:off x="7596360" y="2492280"/>
            <a:ext cx="407880" cy="43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9"/>
          <p:cNvSpPr/>
          <p:nvPr/>
        </p:nvSpPr>
        <p:spPr>
          <a:xfrm>
            <a:off x="7596360" y="4076640"/>
            <a:ext cx="407880" cy="43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2"/>
          <p:cNvSpPr/>
          <p:nvPr/>
        </p:nvSpPr>
        <p:spPr>
          <a:xfrm>
            <a:off x="7596360" y="5877000"/>
            <a:ext cx="407880" cy="43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93"/>
          <p:cNvSpPr/>
          <p:nvPr/>
        </p:nvSpPr>
        <p:spPr>
          <a:xfrm>
            <a:off x="8244000" y="2133720"/>
            <a:ext cx="503280" cy="792000"/>
          </a:xfrm>
          <a:prstGeom prst="triangle">
            <a:avLst>
              <a:gd name="adj" fmla="val 50000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92"/>
          <p:cNvSpPr/>
          <p:nvPr/>
        </p:nvSpPr>
        <p:spPr>
          <a:xfrm>
            <a:off x="7596360" y="4869000"/>
            <a:ext cx="407880" cy="43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920" y="-98280"/>
            <a:ext cx="7200720" cy="86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                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Презентация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ю проведения презентации является выработка 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умений и навык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монстрировать понимание проблемы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монстрировать собственную формулировку цели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дач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бранный путь реш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нализировать ход поиска реш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ргументировано излагать свои мысли, иде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нализировать свою деятельность, предъявля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езультаты рефлекс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нализа групповой и самостоятельной работы, вклада каждого участника проект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амоанализ успешности и результативности решения пробл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4:06:19Z</dcterms:created>
  <dc:creator>Антон</dc:creator>
  <dc:description/>
  <dc:language>en-US</dc:language>
  <cp:lastModifiedBy>Admin</cp:lastModifiedBy>
  <dcterms:modified xsi:type="dcterms:W3CDTF">2022-04-06T07:33:07Z</dcterms:modified>
  <cp:revision>58</cp:revision>
  <dc:subject/>
  <dc:title>Слайд 1</dc:title>
</cp:coreProperties>
</file>