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png" ContentType="image/png"/>
  <Override PartName="/ppt/media/image4.jpeg" ContentType="image/jpeg"/>
  <Override PartName="/ppt/media/image31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19.jpeg" ContentType="image/jpeg"/>
  <Override PartName="/ppt/media/image30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8E2-5E4A-4D04-9E39-7C646B5A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C55-7685-4C15-8742-A24CEBF0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99D-02C8-4B89-BBBD-075E5342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1CB-7315-4D8B-9923-BE505709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214F-8A1C-4B09-BE99-D23844C0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4EA5-105C-45E5-8B8E-5A70E631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E1AB-40AF-4FE7-B827-F37646C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CEB3-285E-4C15-A4CD-B04DF059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122D-CBCB-4BCD-BAC3-73C80ABA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4A79-F757-4C51-8E97-77532B18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CE74-ACF2-4DFC-AB97-9BC3C0F8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E8C-159D-4ECF-9DAA-A3DD2E54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A806-66FC-4E84-9E9E-A2CE6D0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5201-9E5A-4ADC-9AA8-45427F9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4EF8-ED2E-4890-AF6B-42D05AD0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6B6-9439-4719-86EA-A6A8C944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A39-E974-46FA-A47A-8C8B39A3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7C4A-F65D-41E6-9474-C57B4C4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9419-139C-44EF-9CB2-B7B81186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9AB0-4EA4-46BB-A723-374E901F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7D3A-063D-42F1-8395-2A1C8084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DD571-D7D0-4F09-BC1B-ADD7F20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58-29CD-45F3-9276-19261A7C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ACB8-B30F-44AE-8AA7-D2AD2CE3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0E99-699A-45CB-B8D8-0C8A068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1272-0C84-466F-A344-29AC80C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3D15-573C-40D2-8664-D197108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ABD8-3EAB-47C6-8B34-1BD25B0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68342-4404-4326-97B3-C38AD203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4228-7E40-4CB2-A4AF-ACBFD76B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4D33-1D16-45D5-A12E-D60C807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6E73B-E8D1-460B-8D8B-1166B584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4C2A-A40B-44A9-AFFC-46541C43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DA3-2E1C-4208-9FDB-30990DE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E0EA-2694-4935-8A28-CD77FE41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8B11-1FE2-4256-8DE6-2BB9A434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60334-3175-4095-823C-B10EC126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300D-B5AE-4B45-B3A1-4BE782E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FFF2-E790-4E49-A80E-961623A3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5312B-034C-4B2A-8C75-978D440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57771-A608-4A57-AD15-BAF0810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AC4DA-5DDF-46DA-89B4-9DBCF704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CEA0D-041A-4AF6-90DE-12DEB597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0D0-5581-499F-A683-46C6E8C1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3BF-6342-4B49-B392-8393277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1A0-A827-4502-8634-1256571D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AB6-71DA-491A-8936-8A8DBCD1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09D-E5DD-4E82-A91C-779C2791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5B17-4035-4DF0-BCB2-7A4BDACEEC7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8A55-5FEB-4637-A715-BF1067F1D45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D777-0E5D-4F0F-82F4-2C5EB271CB8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67A-31EC-4DB9-A750-77B311D9D37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85840" y="206064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самоконтроля по английскому язык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есси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01.09  Повар, кондитер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rcRect l="13436" t="7502" r="14376" b="13751"/>
          <a:stretch/>
        </p:blipFill>
        <p:spPr>
          <a:xfrm>
            <a:off x="6033960" y="4592520"/>
            <a:ext cx="2706840" cy="2214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 rot="20647200">
            <a:off x="6521400" y="47145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D406-65B4-42D8-AF61-B652FED028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6"/>
          <p:cNvSpPr/>
          <p:nvPr/>
        </p:nvSpPr>
        <p:spPr>
          <a:xfrm>
            <a:off x="785880" y="564372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цева Мари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2000160" y="220680"/>
            <a:ext cx="535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профессионально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ПОУ 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https://catherineasquithgallery.com/uploads/posts/2021-02/1613545461_180-p-kartinki-na-belom-fone-dlya-prezentatsii-203.png"/>
          <p:cNvPicPr/>
          <p:nvPr/>
        </p:nvPicPr>
        <p:blipFill>
          <a:blip r:embed="rId2"/>
          <a:stretch/>
        </p:blipFill>
        <p:spPr>
          <a:xfrm>
            <a:off x="0" y="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s://www.vsekolledzhi.ru/data/org/files/67/yuzhnouralskiy-politehnicheskiy-tehnikum/logo2/1/250.jpg"/>
          <p:cNvPicPr/>
          <p:nvPr/>
        </p:nvPicPr>
        <p:blipFill>
          <a:blip r:embed="rId3"/>
          <a:stretch/>
        </p:blipFill>
        <p:spPr>
          <a:xfrm>
            <a:off x="7400880" y="-6480"/>
            <a:ext cx="1749600" cy="1109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85480" y="357120"/>
            <a:ext cx="871524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иболе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ффективным средство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троля вообще, и  самоконтроля в частности по праву считает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тес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Обучающимся дается задание составить тест  для одногруппников, используя пройденный материал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Выполнив тест, обучающиеся проверяют его с    помощью ключа, оценивают свою работу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7942-8E76-4EDF-9C97-B34F0BE4D45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6" descr="C:\Users\Ivan\YandexDisk\Скриншоты\2023-01-23_13-43-05.png"/>
          <p:cNvPicPr/>
          <p:nvPr/>
        </p:nvPicPr>
        <p:blipFill>
          <a:blip r:embed="rId1"/>
          <a:stretch/>
        </p:blipFill>
        <p:spPr>
          <a:xfrm>
            <a:off x="500040" y="2928960"/>
            <a:ext cx="5786640" cy="36432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7"/>
          <p:cNvSpPr/>
          <p:nvPr/>
        </p:nvSpPr>
        <p:spPr>
          <a:xfrm>
            <a:off x="6572160" y="3071880"/>
            <a:ext cx="2143080" cy="378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е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85480" y="357120"/>
            <a:ext cx="871524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Обучающимся дается задание составить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кроссворд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 для одногруппников, используя пройденный материал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Решив кроссворд, обучающиеся проверяют его с    помощью ключа, оценивают свою работу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1979-BF27-4602-859F-51B52A7AF30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8" descr="https://ped-kopilka.ru/images/31(18).jpg"/>
          <p:cNvPicPr/>
          <p:nvPr/>
        </p:nvPicPr>
        <p:blipFill>
          <a:blip r:embed="rId1"/>
          <a:stretch/>
        </p:blipFill>
        <p:spPr>
          <a:xfrm>
            <a:off x="2928960" y="2214720"/>
            <a:ext cx="3857760" cy="428616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8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2711520" cy="237024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4" descr="1227_l_1_.png"/>
          <p:cNvPicPr/>
          <p:nvPr/>
        </p:nvPicPr>
        <p:blipFill>
          <a:blip r:embed="rId3"/>
          <a:stretch/>
        </p:blipFill>
        <p:spPr>
          <a:xfrm>
            <a:off x="6537240" y="3727440"/>
            <a:ext cx="2606760" cy="3130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214200" y="1928880"/>
            <a:ext cx="235764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28400" y="571680"/>
            <a:ext cx="87152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Задания на классификацию: обучающиеся записывают слова по темам «Мясо», «Рыба», «Молочные продукты», «Фрукты» и т.д. в произвольном порядке. Затем они обмениваются списками слов и распределяют их по указанным разделам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A3BC-ACCD-47C2-A164-10ABFBA72F2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C:\Users\Ivan\Downloads\attachment.jpeg"/>
          <p:cNvPicPr/>
          <p:nvPr/>
        </p:nvPicPr>
        <p:blipFill>
          <a:blip r:embed="rId1"/>
          <a:srcRect l="5858" t="36142" r="0" b="27517"/>
          <a:stretch/>
        </p:blipFill>
        <p:spPr>
          <a:xfrm>
            <a:off x="428760" y="3714840"/>
            <a:ext cx="8286480" cy="27860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5" descr="https://www.grvc.ru/uploadedFiles/eshopimages/big/54811420_2_2.jpg"/>
          <p:cNvPicPr/>
          <p:nvPr/>
        </p:nvPicPr>
        <p:blipFill>
          <a:blip r:embed="rId2"/>
          <a:stretch/>
        </p:blipFill>
        <p:spPr>
          <a:xfrm>
            <a:off x="428760" y="2571840"/>
            <a:ext cx="1009440" cy="1000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6" descr="https://flyclipart.com/thumbs/roach-1453678.png"/>
          <p:cNvPicPr/>
          <p:nvPr/>
        </p:nvPicPr>
        <p:blipFill>
          <a:blip r:embed="rId3"/>
          <a:stretch/>
        </p:blipFill>
        <p:spPr>
          <a:xfrm>
            <a:off x="1500120" y="2714760"/>
            <a:ext cx="885960" cy="7333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https://galank.ru/wp-content/uploads/2018/12/Vegetables_Tomatoes_Pepper_Onion_Lemons_Cabbage_542875_1280x800.jpg"/>
          <p:cNvPicPr/>
          <p:nvPr/>
        </p:nvPicPr>
        <p:blipFill>
          <a:blip r:embed="rId4"/>
          <a:stretch/>
        </p:blipFill>
        <p:spPr>
          <a:xfrm>
            <a:off x="2786040" y="2714760"/>
            <a:ext cx="1314360" cy="8571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https://kpris.ru/wp-content/uploads/frukty.jpg"/>
          <p:cNvPicPr/>
          <p:nvPr/>
        </p:nvPicPr>
        <p:blipFill>
          <a:blip r:embed="rId5"/>
          <a:srcRect l="7402" t="29260" r="7402" b="23935"/>
          <a:stretch/>
        </p:blipFill>
        <p:spPr>
          <a:xfrm>
            <a:off x="4000680" y="2786040"/>
            <a:ext cx="1752480" cy="838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9" descr="https://image.shutterstock.com/shutterstock/photos/629680217/display_1500/stock-vector-dairy-products-poster-with-milk-curd-cheese-butter-yogurt-and-yellow-ribbon-on-blue-background-629680217.jpg"/>
          <p:cNvPicPr/>
          <p:nvPr/>
        </p:nvPicPr>
        <p:blipFill>
          <a:blip r:embed="rId6"/>
          <a:srcRect l="0" t="7398" r="0" b="7398"/>
          <a:stretch/>
        </p:blipFill>
        <p:spPr>
          <a:xfrm>
            <a:off x="6000840" y="2643120"/>
            <a:ext cx="1285920" cy="9954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0" descr="https://w-dog.ru/wallpapers/1/4/421123351740644/ploshki-stol-specii-karri-ch-rnyj-perec.jpg"/>
          <p:cNvPicPr/>
          <p:nvPr/>
        </p:nvPicPr>
        <p:blipFill>
          <a:blip r:embed="rId7"/>
          <a:stretch/>
        </p:blipFill>
        <p:spPr>
          <a:xfrm>
            <a:off x="7500960" y="2643120"/>
            <a:ext cx="1143000" cy="990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642960"/>
            <a:ext cx="871524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Задание на коррекцию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5. Творческие задания «Составить меню»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7065-52B9-4E50-8463-EF0BE81029B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8" descr="C:\Users\Ivan\OneDrive\Рабочий стол\1647094397_40-kartinkin-net-p-kartinki-dlya-menyu-kafe-41.jpg"/>
          <p:cNvPicPr/>
          <p:nvPr/>
        </p:nvPicPr>
        <p:blipFill>
          <a:blip r:embed="rId1"/>
          <a:stretch/>
        </p:blipFill>
        <p:spPr>
          <a:xfrm>
            <a:off x="642960" y="2357280"/>
            <a:ext cx="4429080" cy="37148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9" descr="https://i.pinimg.com/originals/5a/d8/72/5ad87255e233f21e92f9efc15a40b775.jpg"/>
          <p:cNvPicPr/>
          <p:nvPr/>
        </p:nvPicPr>
        <p:blipFill>
          <a:blip r:embed="rId2"/>
          <a:stretch/>
        </p:blipFill>
        <p:spPr>
          <a:xfrm>
            <a:off x="5643720" y="2286000"/>
            <a:ext cx="3143160" cy="407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ADE7-4D42-410C-B6A7-850C94252DF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357120" y="714240"/>
            <a:ext cx="842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эффективного функциониров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контро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его составляющих - самонаблюдения, самоанализа, сличения речевых действий с эталонами, самокоррекции и самооценки — достигается безошибочность реч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амоконтрол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тся как один из показателей степени соверше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й и навы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5" descr="https://static1.bigstockphoto.com/0/7/1/large1500/1702379.jpg"/>
          <p:cNvPicPr/>
          <p:nvPr/>
        </p:nvPicPr>
        <p:blipFill>
          <a:blip r:embed="rId1"/>
          <a:srcRect l="0" t="0" r="0" b="8057"/>
          <a:stretch/>
        </p:blipFill>
        <p:spPr>
          <a:xfrm>
            <a:off x="2000160" y="4286160"/>
            <a:ext cx="4786560" cy="257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85840" y="206064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самоконтроля по английскому языку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ессии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.01.09  Повар, кондитер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rcRect l="13436" t="7502" r="14376" b="13751"/>
          <a:stretch/>
        </p:blipFill>
        <p:spPr>
          <a:xfrm>
            <a:off x="6033960" y="4592520"/>
            <a:ext cx="2706840" cy="2214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 rot="20647200">
            <a:off x="6521400" y="47145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E1C-C4D3-4DE9-822D-7C067E32977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785880" y="564372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нцева Марин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071800" y="220680"/>
            <a:ext cx="5429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истерство образования и науки Челябин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е бюджетное профессионально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БПОУ «Южноуральский энергетический технику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https://catherineasquithgallery.com/uploads/posts/2021-02/1613545461_180-p-kartinki-na-belom-fone-dlya-prezentatsii-203.png"/>
          <p:cNvPicPr/>
          <p:nvPr/>
        </p:nvPicPr>
        <p:blipFill>
          <a:blip r:embed="rId2"/>
          <a:stretch/>
        </p:blipFill>
        <p:spPr>
          <a:xfrm>
            <a:off x="0" y="214200"/>
            <a:ext cx="2000160" cy="192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s://www.vsekolledzhi.ru/data/org/files/67/yuzhnouralskiy-politehnicheskiy-tehnikum/logo2/1/250.jpg"/>
          <p:cNvPicPr/>
          <p:nvPr/>
        </p:nvPicPr>
        <p:blipFill>
          <a:blip r:embed="rId3"/>
          <a:stretch/>
        </p:blipFill>
        <p:spPr>
          <a:xfrm>
            <a:off x="7400880" y="-6480"/>
            <a:ext cx="1749600" cy="1109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ь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широком смысле)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мпонент учебно-воспитательного процесса, нацеленного на определение уровня знаний, навыков и умений обучаемого.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69A-3F2A-4AAA-9C09-543855089E2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"/>
          <p:cNvSpPr/>
          <p:nvPr/>
        </p:nvSpPr>
        <p:spPr>
          <a:xfrm rot="10531800">
            <a:off x="1204200" y="4281480"/>
            <a:ext cx="1878120" cy="166680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6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"/>
          <p:cNvSpPr/>
          <p:nvPr/>
        </p:nvSpPr>
        <p:spPr>
          <a:xfrm flipH="1" rot="10550400">
            <a:off x="6220440" y="4374360"/>
            <a:ext cx="1900080" cy="137628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bf5f9"/>
              </a:gs>
            </a:gsLst>
            <a:lin ang="159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00040" y="3429000"/>
            <a:ext cx="82296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ь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узком смысле)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этап занятия, во время которого проводится проверка домашнего задания или упражнений, выполняемых на зан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https://dommedtorg.ru/userfiles/icons/effectivno.jpg"/>
          <p:cNvPicPr/>
          <p:nvPr/>
        </p:nvPicPr>
        <p:blipFill>
          <a:blip r:embed="rId1"/>
          <a:stretch/>
        </p:blipFill>
        <p:spPr>
          <a:xfrm>
            <a:off x="7500960" y="2643120"/>
            <a:ext cx="1643040" cy="178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28573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br>
              <a:rPr sz="35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учающая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иагностическая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корректировочная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управленческая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ценочная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стимулирующая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собственно контролирующая (проверочная)</a:t>
            </a:r>
            <a:br>
              <a:rPr sz="3500"/>
            </a:b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7F4-18C7-4D09-8C84-93DAA411BE5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https://image.shutterstock.com/image-illustration/character-that-represents-consent-white-600w-1790133677.jpg"/>
          <p:cNvPicPr/>
          <p:nvPr/>
        </p:nvPicPr>
        <p:blipFill>
          <a:blip r:embed="rId1"/>
          <a:stretch/>
        </p:blipFill>
        <p:spPr>
          <a:xfrm>
            <a:off x="6072120" y="1214280"/>
            <a:ext cx="2909880" cy="311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контроль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нутренний механизм речемыслительной деятельности, регулирующий овладение внешней речевой деятельностью. 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самоконтроль должен сформироваться как при овладени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ми умениям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ворением, чтением, письмом), так и при овладении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м материалом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мматикой, лексикой, произношением, интонацией, орфографией).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4E6A-479F-410A-88BA-44933BA60D2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7215120" y="0"/>
            <a:ext cx="192888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794376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ы самоконтроля и самооценки</a:t>
            </a:r>
            <a:br>
              <a:rPr sz="3500"/>
            </a:br>
            <a:br>
              <a:rPr sz="35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ABDA-CAE6-4F6D-A7F3-16D57CB461D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14240" y="1428840"/>
            <a:ext cx="79441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альн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бинированная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s://image.shutterstock.com/shutterstock/photos/145056067/display_1500/stock-photo--d-people-men-person-with-speech-bubbles-and-text-yes-and-no-confused-145056067.jpg"/>
          <p:cNvPicPr/>
          <p:nvPr/>
        </p:nvPicPr>
        <p:blipFill>
          <a:blip r:embed="rId1"/>
          <a:srcRect l="1400" t="0" r="0" b="9431"/>
          <a:stretch/>
        </p:blipFill>
        <p:spPr>
          <a:xfrm>
            <a:off x="5429160" y="3857760"/>
            <a:ext cx="350064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840" y="856800"/>
            <a:ext cx="85723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ерв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нности самоконтроля с точки зрения коррекции ошибок, характеризуется следующими особенностям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учающийся, допустивший ошибку, сам ее не слышит, не реагирует, контролировать не может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подаватель исправляет ошибку путем объяснения, или демонстрацией образца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равление ошибки говорящим носит немедленный характер. В процессе исправления обучающийся как бы осознает программу действ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контроль как механизм сличения отсутству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C8F3-1048-4DE8-BD25-F332115E282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https://catherineasquithgallery.com/uploads/posts/2021-02/1613545461_180-p-kartinki-na-belom-fone-dlya-prezentatsii-203.png"/>
          <p:cNvPicPr/>
          <p:nvPr/>
        </p:nvPicPr>
        <p:blipFill>
          <a:blip r:embed="rId1"/>
          <a:stretch/>
        </p:blipFill>
        <p:spPr>
          <a:xfrm>
            <a:off x="7429680" y="3429000"/>
            <a:ext cx="142848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85840" y="856800"/>
            <a:ext cx="85723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нности самоконтроля с точки зрения коррекции ошибок, характеризуется следующими особенностям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удент, допустивший ошибку, самостоятельно ее не исправляет, но по указанию преподавателя делает это достаточно быстро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равление ошибки обучающимся носит быстрый целостный характер, самоконтроль полностью не сформирован, хотя все компоненты для его формирования отработан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1397-AA42-4A0E-A0D9-46E93507A4C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5" descr="C:\Users\Ivan\OneDrive\Рабочий стол\png-clipart-teacher-student-school-classroom-powerful-woman-furniture-class.png"/>
          <p:cNvPicPr/>
          <p:nvPr/>
        </p:nvPicPr>
        <p:blipFill>
          <a:blip r:embed="rId1"/>
          <a:stretch/>
        </p:blipFill>
        <p:spPr>
          <a:xfrm>
            <a:off x="7358040" y="5214960"/>
            <a:ext cx="1785960" cy="145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85840" y="856800"/>
            <a:ext cx="85723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нности самоконтроля с точки зрения коррекции ошибок, характеризуется следующими особенностям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удент уже самостоятельно реагирует на допущенную ошибку, но с опозданием; • преподаватель фиксирует только неисправленные в результате самоконтроля ошибк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контроль сформирован, но недостаточно автоматизирован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0658-320E-4E73-A125-C43FAC8E19D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6" descr="C:\Users\Ivan\OneDrive\Рабочий стол\бе-ые-че-овеки-d-и-красный-че-овек-руково-ство-и-концепция-успеха-72376030.jpg"/>
          <p:cNvPicPr/>
          <p:nvPr/>
        </p:nvPicPr>
        <p:blipFill>
          <a:blip r:embed="rId1"/>
          <a:srcRect l="17887" t="0" r="14532" b="0"/>
          <a:stretch/>
        </p:blipFill>
        <p:spPr>
          <a:xfrm>
            <a:off x="6929280" y="4857840"/>
            <a:ext cx="1509840" cy="160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856800"/>
            <a:ext cx="85723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формированности самоконтроля с точки зрения коррекции ошибок, характеризуется следующими особенностями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учающийся исправляет ошибку в момент ее возникновения, т. е. происходит текущее сличение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•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равление ошибки говорящим – самостоятельное, текущее, мгновенное (ошибки часто носят характер оговорок); самоконтроль сформирован, и действие его автоматизирован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81FB-C6A2-44CA-B868-81974AD90B1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C:\Users\Ivan\OneDrive\Рабочий стол\leader.jpg"/>
          <p:cNvPicPr/>
          <p:nvPr/>
        </p:nvPicPr>
        <p:blipFill>
          <a:blip r:embed="rId1"/>
          <a:stretch/>
        </p:blipFill>
        <p:spPr>
          <a:xfrm>
            <a:off x="5429160" y="4786200"/>
            <a:ext cx="26431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49:46Z</dcterms:created>
  <dc:creator>Natasha</dc:creator>
  <dc:description/>
  <dc:language>en-US</dc:language>
  <cp:lastModifiedBy>user</cp:lastModifiedBy>
  <dcterms:modified xsi:type="dcterms:W3CDTF">2023-01-24T17:12:19Z</dcterms:modified>
  <cp:revision>189</cp:revision>
  <dc:subject/>
  <dc:title>Педагогічні ігрові технології</dc:title>
</cp:coreProperties>
</file>